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3E2-7F4D-437A-96D8-E2651866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B92-76CF-43CA-AF83-16D76914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214-F0E7-4E33-AF4E-2328C101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B0A-7D54-432C-B516-996DC9E6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135-D0DB-4A1D-B239-29DFB0F8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2A9-34DE-4DD2-92B3-480C2CBC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E08-C85A-4386-80FB-7FB9C72A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99D-50FF-4E9E-BB12-BFF7F2BD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110-0B1A-483C-AF29-3FC56451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0E5-4B1A-4CF9-9578-33E4870C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E22-5458-45B5-BF4C-1360CCFA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2D6-63F7-49E3-A0F0-FAAB67E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04E2-9B7F-4C1A-B321-828E79F768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样式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3400" y="2066760"/>
            <a:ext cx="2217600" cy="211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413000"/>
            <a:ext cx="815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34:16Z</dcterms:created>
  <dc:creator>walkinnet</dc:creator>
  <dc:description/>
  <dc:language>en-US</dc:language>
  <cp:lastModifiedBy>walkinnet</cp:lastModifiedBy>
  <dcterms:modified xsi:type="dcterms:W3CDTF">2009-02-17T07:35:15Z</dcterms:modified>
  <cp:revision>2</cp:revision>
  <dc:subject/>
  <dc:title>PPT样式一</dc:title>
</cp:coreProperties>
</file>