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A26D-42F7-4127-864F-A143A74C4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4972-E4B1-4F86-B1E7-65619CF1E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B595-7443-4BA3-AD48-C7ED29C0D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44F1-25A6-4137-A02B-CC5497FBB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1060-A7FD-4057-B6E6-A6DD4D9FC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0763-DB19-46B6-8EEA-3FEDB20AC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0092-7C55-466C-A808-C00FA1E49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40AE-7655-435C-B6FB-16FAF9E43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0E59-E40C-428B-8235-51CEE345E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CB9F-6381-4638-9989-6B96C0AD1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8CE5-F899-4EFA-AFF1-6632E6416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75BA-2755-4822-884C-138D53E07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7A5FA-5A18-4DD5-BBA8-504BB3FF18D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样式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443400" y="2066760"/>
            <a:ext cx="2217600" cy="2116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33520" y="1413000"/>
            <a:ext cx="815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7T07:34:16Z</dcterms:created>
  <dc:creator>walkinnet</dc:creator>
  <dc:description/>
  <dc:language>en-US</dc:language>
  <cp:lastModifiedBy>walkinnet</cp:lastModifiedBy>
  <dcterms:modified xsi:type="dcterms:W3CDTF">2009-02-17T07:34:55Z</dcterms:modified>
  <cp:revision>1</cp:revision>
  <dc:subject/>
  <dc:title>PPT样式一</dc:title>
</cp:coreProperties>
</file>