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png" ContentType="image/png"/>
  <Override PartName="/ppt/media/image15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AC3B-F216-47F8-A459-7D952CB7F545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5A54-2EBD-488D-B78B-56380DA01580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1A49-01BF-4ED3-9EBB-FB3A071AF6AB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E6D7-674E-468E-BD05-1EDF459C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C0A-7B20-4286-B9D0-09FE200D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A6B1-AD7D-40B2-A679-77A6B689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2F8A-D96D-43D4-B1DF-D753D53E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A25D-2D72-4619-A60A-A57F8432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CBAC-4DD1-4909-829D-ED3218A4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D924-F739-45DE-A8FE-BFEF3EA4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BF91-7336-46F7-811F-99D5E208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B632-6A57-40EE-A05D-7FC5F2E9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13F2-37D3-4994-968F-9F386D05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DA37-4E8B-4142-9B16-FBF6137D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467-06F9-4C23-9FE8-F4FCE254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A764-3656-4CEC-A91F-851EBE37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0498-B0B7-4405-BE4B-6BDA858F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5DBE-2795-446C-A21D-5FA50CB5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DA96-7025-49FF-8874-B8BFB0D6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7E08-4B76-44F8-80D5-92203D23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42F-18A1-48C9-A1D9-0BE08696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89D-AE6C-4956-A4DD-996E53F7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02F-5F72-4542-A084-3B9D1178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D33-E824-4FA6-BEDE-55EB6AC9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05A-EBFF-4FA4-A774-9F742EC6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1CC-E25D-429E-A210-847FA285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F6B-71D2-4D07-A1F7-DE7B198E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ECAE-0ED8-4C91-805F-FF3395D2CD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4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360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399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438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477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516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555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594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633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672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711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43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67B4-D717-4FF2-A230-5F49C74697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750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789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828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6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867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906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945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87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126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165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204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243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282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矩形 6"/>
          <p:cNvGrpSpPr/>
          <p:nvPr/>
        </p:nvGrpSpPr>
        <p:grpSpPr>
          <a:xfrm>
            <a:off x="49320" y="60480"/>
            <a:ext cx="2865240" cy="207360"/>
            <a:chOff x="49320" y="60480"/>
            <a:chExt cx="2865240" cy="207360"/>
          </a:xfrm>
        </p:grpSpPr>
        <p:pic>
          <p:nvPicPr>
            <p:cNvPr id="321" name="矩形 6" descr=""/>
            <p:cNvPicPr/>
            <p:nvPr/>
          </p:nvPicPr>
          <p:blipFill>
            <a:blip r:embed="rId3"/>
            <a:stretch/>
          </p:blipFill>
          <p:spPr>
            <a:xfrm>
              <a:off x="52200" y="60480"/>
              <a:ext cx="286020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9320" y="63000"/>
              <a:ext cx="2865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  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汤姆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0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索亚历险记（节选）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TextBox 48"/>
          <p:cNvGrpSpPr/>
          <p:nvPr/>
        </p:nvGrpSpPr>
        <p:grpSpPr>
          <a:xfrm>
            <a:off x="463680" y="1700280"/>
            <a:ext cx="8692920" cy="871560"/>
            <a:chOff x="463680" y="1700280"/>
            <a:chExt cx="8692920" cy="871560"/>
          </a:xfrm>
        </p:grpSpPr>
        <p:pic>
          <p:nvPicPr>
            <p:cNvPr id="991" name="TextBox 48" descr=""/>
            <p:cNvPicPr/>
            <p:nvPr/>
          </p:nvPicPr>
          <p:blipFill>
            <a:blip r:embed="rId1"/>
            <a:stretch/>
          </p:blipFill>
          <p:spPr>
            <a:xfrm>
              <a:off x="463680" y="1700280"/>
              <a:ext cx="8692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>
              <a:off x="468360" y="1703520"/>
              <a:ext cx="8675640" cy="84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5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 </a:t>
              </a:r>
              <a:r>
                <a:rPr b="1" sz="5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汤姆</a:t>
              </a:r>
              <a:r>
                <a:rPr b="1" sz="5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·</a:t>
              </a:r>
              <a:r>
                <a:rPr b="1" sz="5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索亚历险记（节选）</a:t>
              </a:r>
              <a:endParaRPr b="1" lang="en-US" sz="5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TextBox 2"/>
          <p:cNvSpPr/>
          <p:nvPr/>
        </p:nvSpPr>
        <p:spPr>
          <a:xfrm>
            <a:off x="90360" y="63360"/>
            <a:ext cx="340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    六年级    下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777384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如果现在就让你读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汤姆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索亚历险记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这本书，你想先读哪部分呢？为什么呢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2" name="图片 80902" descr="20022697"/>
          <p:cNvPicPr/>
          <p:nvPr/>
        </p:nvPicPr>
        <p:blipFill>
          <a:blip r:embed="rId1"/>
          <a:stretch/>
        </p:blipFill>
        <p:spPr>
          <a:xfrm>
            <a:off x="1735200" y="3281400"/>
            <a:ext cx="1260360" cy="137628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80904" descr="u=2672086814,916317173&amp;fm=0&amp;gp=0"/>
          <p:cNvPicPr/>
          <p:nvPr/>
        </p:nvPicPr>
        <p:blipFill>
          <a:blip r:embed="rId2"/>
          <a:stretch/>
        </p:blipFill>
        <p:spPr>
          <a:xfrm>
            <a:off x="4284720" y="3371760"/>
            <a:ext cx="1116000" cy="1195560"/>
          </a:xfrm>
          <a:prstGeom prst="rect">
            <a:avLst/>
          </a:prstGeom>
          <a:ln w="0">
            <a:noFill/>
          </a:ln>
        </p:spPr>
      </p:pic>
      <p:sp>
        <p:nvSpPr>
          <p:cNvPr id="1034" name="矩形 80907"/>
          <p:cNvSpPr txBox="1"/>
          <p:nvPr/>
        </p:nvSpPr>
        <p:spPr>
          <a:xfrm>
            <a:off x="826920" y="2786040"/>
            <a:ext cx="6121440" cy="99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读整本书，更精彩！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4000" y="915840"/>
            <a:ext cx="756756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课后作业：</a:t>
            </a:r>
            <a:br>
              <a:rPr sz="2800"/>
            </a:b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查找资料，了解作家马克•吐温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阅读小说，标记好你认为最有趣的段落，结合对汤姆的认识写一篇心得体会，也可以摘录精彩句段，准备参加班级读书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文本框 3"/>
          <p:cNvSpPr/>
          <p:nvPr/>
        </p:nvSpPr>
        <p:spPr>
          <a:xfrm>
            <a:off x="3134520" y="9874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Xingkai SC"/>
                <a:ea typeface="Xingkai SC"/>
              </a:rPr>
              <a:t>谢谢观看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图片 3076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996" name="矩形 3085" descr=""/>
          <p:cNvPicPr/>
          <p:nvPr/>
        </p:nvPicPr>
        <p:blipFill>
          <a:blip r:embed="rId2"/>
          <a:stretch/>
        </p:blipFill>
        <p:spPr>
          <a:xfrm>
            <a:off x="3048120" y="1274760"/>
            <a:ext cx="3297240" cy="1365120"/>
          </a:xfrm>
          <a:prstGeom prst="rect">
            <a:avLst/>
          </a:prstGeom>
          <a:ln w="0">
            <a:noFill/>
          </a:ln>
        </p:spPr>
      </p:pic>
      <p:sp>
        <p:nvSpPr>
          <p:cNvPr id="997" name="文本框 3086"/>
          <p:cNvSpPr/>
          <p:nvPr/>
        </p:nvSpPr>
        <p:spPr>
          <a:xfrm>
            <a:off x="684360" y="456408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文本框 3079"/>
          <p:cNvSpPr/>
          <p:nvPr/>
        </p:nvSpPr>
        <p:spPr>
          <a:xfrm>
            <a:off x="6818760" y="12747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  <a:ea typeface="黑体"/>
              </a:rPr>
              <a:t>历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险</a:t>
            </a:r>
            <a:r>
              <a:rPr b="0" lang="zh-CN" sz="6600" spc="-1" strike="noStrike">
                <a:solidFill>
                  <a:srgbClr val="00ffff"/>
                </a:solidFill>
                <a:latin typeface="Times New Roman"/>
                <a:ea typeface="华文新魏"/>
              </a:rPr>
              <a:t>记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9" name="图片 3089" descr="u=55170498,772512513&amp;fm=0&amp;gp=0"/>
          <p:cNvPicPr/>
          <p:nvPr/>
        </p:nvPicPr>
        <p:blipFill>
          <a:blip r:embed="rId3"/>
          <a:stretch/>
        </p:blipFill>
        <p:spPr>
          <a:xfrm>
            <a:off x="0" y="0"/>
            <a:ext cx="2987640" cy="2679840"/>
          </a:xfrm>
          <a:prstGeom prst="rect">
            <a:avLst/>
          </a:prstGeom>
          <a:ln w="0">
            <a:noFill/>
          </a:ln>
        </p:spPr>
      </p:pic>
      <p:pic>
        <p:nvPicPr>
          <p:cNvPr id="1000" name="图片 3091" descr="u=3733500862,3520253664&amp;fm=0&amp;gp=0"/>
          <p:cNvPicPr/>
          <p:nvPr/>
        </p:nvPicPr>
        <p:blipFill>
          <a:blip r:embed="rId4"/>
          <a:stretch/>
        </p:blipFill>
        <p:spPr>
          <a:xfrm>
            <a:off x="1731960" y="2496960"/>
            <a:ext cx="32767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2" descr="图片1"/>
          <p:cNvPicPr/>
          <p:nvPr/>
        </p:nvPicPr>
        <p:blipFill>
          <a:blip r:embed="rId1"/>
          <a:stretch/>
        </p:blipFill>
        <p:spPr>
          <a:xfrm>
            <a:off x="-320760" y="-179280"/>
            <a:ext cx="9748800" cy="5483160"/>
          </a:xfrm>
          <a:prstGeom prst="rect">
            <a:avLst/>
          </a:prstGeom>
          <a:ln w="0">
            <a:noFill/>
          </a:ln>
        </p:spPr>
      </p:pic>
      <p:sp>
        <p:nvSpPr>
          <p:cNvPr id="1002" name="Rectangle 3"/>
          <p:cNvSpPr/>
          <p:nvPr/>
        </p:nvSpPr>
        <p:spPr>
          <a:xfrm>
            <a:off x="826920" y="2492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4"/>
          <p:cNvSpPr/>
          <p:nvPr/>
        </p:nvSpPr>
        <p:spPr>
          <a:xfrm>
            <a:off x="539640" y="35265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4" name="图片 2" descr=""/>
          <p:cNvPicPr/>
          <p:nvPr/>
        </p:nvPicPr>
        <p:blipFill>
          <a:blip r:embed="rId2"/>
          <a:stretch/>
        </p:blipFill>
        <p:spPr>
          <a:xfrm>
            <a:off x="-320760" y="361800"/>
            <a:ext cx="5602320" cy="4599000"/>
          </a:xfrm>
          <a:prstGeom prst="rect">
            <a:avLst/>
          </a:prstGeom>
          <a:ln w="0">
            <a:noFill/>
          </a:ln>
        </p:spPr>
      </p:pic>
      <p:pic>
        <p:nvPicPr>
          <p:cNvPr id="1005" name="图片 3" descr=""/>
          <p:cNvPicPr/>
          <p:nvPr/>
        </p:nvPicPr>
        <p:blipFill>
          <a:blip r:embed="rId3"/>
          <a:stretch/>
        </p:blipFill>
        <p:spPr>
          <a:xfrm>
            <a:off x="4867200" y="452520"/>
            <a:ext cx="441324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Picture 2" descr="图片1"/>
          <p:cNvPicPr/>
          <p:nvPr/>
        </p:nvPicPr>
        <p:blipFill>
          <a:blip r:embed="rId1"/>
          <a:stretch/>
        </p:blipFill>
        <p:spPr>
          <a:xfrm>
            <a:off x="-320760" y="-179280"/>
            <a:ext cx="9748800" cy="54831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3"/>
          <p:cNvSpPr/>
          <p:nvPr/>
        </p:nvSpPr>
        <p:spPr>
          <a:xfrm>
            <a:off x="826920" y="2492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4"/>
          <p:cNvSpPr/>
          <p:nvPr/>
        </p:nvSpPr>
        <p:spPr>
          <a:xfrm>
            <a:off x="539640" y="35265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9" name="图片 6148" descr="马克吐温"/>
          <p:cNvPicPr/>
          <p:nvPr/>
        </p:nvPicPr>
        <p:blipFill>
          <a:blip r:embed="rId2"/>
          <a:stretch/>
        </p:blipFill>
        <p:spPr>
          <a:xfrm>
            <a:off x="96840" y="519120"/>
            <a:ext cx="3862440" cy="3836880"/>
          </a:xfrm>
          <a:prstGeom prst="rect">
            <a:avLst/>
          </a:prstGeom>
          <a:ln w="0">
            <a:noFill/>
          </a:ln>
        </p:spPr>
      </p:pic>
      <p:sp>
        <p:nvSpPr>
          <p:cNvPr id="1010" name="矩形 6158"/>
          <p:cNvSpPr/>
          <p:nvPr/>
        </p:nvSpPr>
        <p:spPr>
          <a:xfrm>
            <a:off x="4210200" y="74520"/>
            <a:ext cx="4933800" cy="1373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作家马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吐温擅长使用幽默和讽刺，对后来的美国文学产生了深远的影响。人们普遍认为他是美国文学史上的一大里程碑，是美国批判现实主义文学的奠基人，世界著名的短篇小说大师。代表作有短篇小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竞选州长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百万英镑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长篇小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汤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索亚历险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哈克贝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费恩历险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2" name="图片 3993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13" name="文本框 39940"/>
          <p:cNvSpPr/>
          <p:nvPr/>
        </p:nvSpPr>
        <p:spPr>
          <a:xfrm>
            <a:off x="611280" y="770040"/>
            <a:ext cx="56163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《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汤姆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•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索亚历险记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》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是美国文学大师马克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•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吐温的四大名著之一，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受到了世界各国读者的喜爱，历经百年，魅力不减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4" name="图片 39943" descr="01-09-002-02"/>
          <p:cNvPicPr/>
          <p:nvPr/>
        </p:nvPicPr>
        <p:blipFill>
          <a:blip r:embed="rId2"/>
          <a:stretch/>
        </p:blipFill>
        <p:spPr>
          <a:xfrm>
            <a:off x="7315200" y="285840"/>
            <a:ext cx="274320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文本框 58371"/>
          <p:cNvSpPr/>
          <p:nvPr/>
        </p:nvSpPr>
        <p:spPr>
          <a:xfrm>
            <a:off x="684360" y="140508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说说这部小说主要写了什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文本框 58373"/>
          <p:cNvSpPr/>
          <p:nvPr/>
        </p:nvSpPr>
        <p:spPr>
          <a:xfrm>
            <a:off x="770040" y="55548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默读节选片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文本框 1"/>
          <p:cNvSpPr/>
          <p:nvPr/>
        </p:nvSpPr>
        <p:spPr>
          <a:xfrm>
            <a:off x="789120" y="2585880"/>
            <a:ext cx="59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精彩片段讲述的是汤姆和贝琪从迷路的山洞返回家后的故事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文本框 1"/>
          <p:cNvSpPr/>
          <p:nvPr/>
        </p:nvSpPr>
        <p:spPr>
          <a:xfrm>
            <a:off x="858960" y="411120"/>
            <a:ext cx="560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再读精彩片段，围绕下面的问题交流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觉得汤姆是个怎样的孩子？哪些地方给你的印象最深？在这段历险中，你对汤姆有了怎样的认识？　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34960" y="339480"/>
            <a:ext cx="8439120" cy="2019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组合作：你觉得汤姆是个怎样的孩子？哪些地方给你的印象最深？在这段历险中，你对汤姆有了怎样的认识？结合具体的内容来简单说一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矩形 79875"/>
          <p:cNvSpPr/>
          <p:nvPr/>
        </p:nvSpPr>
        <p:spPr>
          <a:xfrm>
            <a:off x="1490040" y="2359080"/>
            <a:ext cx="417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山洞中迷路，贝琪绝望时，三次探路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终找到通道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矩形 79876"/>
          <p:cNvSpPr txBox="1"/>
          <p:nvPr/>
        </p:nvSpPr>
        <p:spPr>
          <a:xfrm>
            <a:off x="3405240" y="2714760"/>
            <a:ext cx="23335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乐观、勇敢</a:t>
            </a:r>
            <a:endParaRPr b="1" lang="en-US" sz="40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22" name="矩形 79877"/>
          <p:cNvSpPr/>
          <p:nvPr/>
        </p:nvSpPr>
        <p:spPr>
          <a:xfrm>
            <a:off x="1688040" y="31939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已经迷路的情况下利用风筝线探路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矩形 79878"/>
          <p:cNvSpPr txBox="1"/>
          <p:nvPr/>
        </p:nvSpPr>
        <p:spPr>
          <a:xfrm>
            <a:off x="5894280" y="3255840"/>
            <a:ext cx="2333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足智多谋</a:t>
            </a:r>
            <a:endParaRPr b="1" lang="en-US" sz="40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24" name="矩形 79879"/>
          <p:cNvSpPr/>
          <p:nvPr/>
        </p:nvSpPr>
        <p:spPr>
          <a:xfrm>
            <a:off x="1308960" y="38019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恢复后即看望朋友哈克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矩形 79880"/>
          <p:cNvSpPr txBox="1"/>
          <p:nvPr/>
        </p:nvSpPr>
        <p:spPr>
          <a:xfrm>
            <a:off x="4199040" y="3801960"/>
            <a:ext cx="2520720" cy="5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有爱心，关心他人</a:t>
            </a:r>
            <a:endParaRPr b="1" lang="en-US" sz="40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26" name="矩形 79881"/>
          <p:cNvSpPr/>
          <p:nvPr/>
        </p:nvSpPr>
        <p:spPr>
          <a:xfrm>
            <a:off x="3328200" y="4341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讲精彩历险过程，还不忘夸张地吹嘘一番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矩形 79882"/>
          <p:cNvSpPr txBox="1"/>
          <p:nvPr/>
        </p:nvSpPr>
        <p:spPr>
          <a:xfrm>
            <a:off x="6513480" y="4560840"/>
            <a:ext cx="2016000" cy="4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顽皮</a:t>
            </a:r>
            <a:endParaRPr b="1" lang="en-US" sz="2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28" name="矩形 79883"/>
          <p:cNvSpPr txBox="1"/>
          <p:nvPr/>
        </p:nvSpPr>
        <p:spPr>
          <a:xfrm>
            <a:off x="8228160" y="2841480"/>
            <a:ext cx="900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爱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冒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险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文本框 1"/>
          <p:cNvSpPr/>
          <p:nvPr/>
        </p:nvSpPr>
        <p:spPr>
          <a:xfrm>
            <a:off x="838080" y="628560"/>
            <a:ext cx="265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拓展延伸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文本框 2"/>
          <p:cNvSpPr/>
          <p:nvPr/>
        </p:nvSpPr>
        <p:spPr>
          <a:xfrm>
            <a:off x="669960" y="1328760"/>
            <a:ext cx="54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在汤姆的身上，你能找到自己或是身边伙伴的影子吗？联系自己的生活和学习，说说自己的感受。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38:15Z</dcterms:created>
  <dc:creator>Jun</dc:creator>
  <dc:description/>
  <dc:language>en-US</dc:language>
  <cp:lastModifiedBy>dxq</cp:lastModifiedBy>
  <dcterms:modified xsi:type="dcterms:W3CDTF">2020-11-10T00:57:41Z</dcterms:modified>
  <cp:revision>15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6470</vt:lpwstr>
  </property>
</Properties>
</file>