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254-E116-4ABB-B269-F004653F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497-ADA9-4F48-A68A-706782B5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5B1-8124-43DD-8741-DB2585CB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CED-FCC4-43B0-8C4D-4B039260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C1B-D2DE-4D09-B798-D6B2175F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664-1BD1-473F-985D-D7BC985B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4DF-2C26-4D8C-A4B0-0421A287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EE7-817A-4F19-BAFE-5273D5AA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74B-0752-4D90-BFF6-DEDAE6DE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8B3-18ED-4846-8DE8-7A40C97E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0CF-728B-4217-A503-C978A430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28A-26A5-488D-B439-3E22FEEB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3B4D-C931-43B8-A3D7-380DC75A6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116000" y="1413000"/>
            <a:ext cx="748980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Arial"/>
                <a:ea typeface="隶书"/>
              </a:rPr>
              <a:t>我爱少先队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少儿简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*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年级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*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65105_000427387_2"/>
          <p:cNvPicPr/>
          <p:nvPr/>
        </p:nvPicPr>
        <p:blipFill>
          <a:blip r:embed="rId2"/>
          <a:stretch/>
        </p:blipFill>
        <p:spPr>
          <a:xfrm>
            <a:off x="8153280" y="189000"/>
            <a:ext cx="99072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mage001(3)"/>
          <p:cNvPicPr/>
          <p:nvPr/>
        </p:nvPicPr>
        <p:blipFill>
          <a:blip r:embed="rId3"/>
          <a:stretch/>
        </p:blipFill>
        <p:spPr>
          <a:xfrm>
            <a:off x="0" y="2852640"/>
            <a:ext cx="21891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900000" y="2060640"/>
            <a:ext cx="74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少先队队旗上的五角星代表中国共产党的领导，火炬象征光明，红旗象征革命胜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780000" y="5516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934920" y="198900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少先队建队日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419640" y="4508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065105_000427387_2"/>
          <p:cNvPicPr/>
          <p:nvPr/>
        </p:nvPicPr>
        <p:blipFill>
          <a:blip r:embed="rId2"/>
          <a:stretch/>
        </p:blipFill>
        <p:spPr>
          <a:xfrm>
            <a:off x="324000" y="260280"/>
            <a:ext cx="9903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84360" y="184464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现在各种阅读资料丰富多彩，因此队报、队刊的订阅意义不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916360" y="4581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2065105_000427387_2"/>
          <p:cNvPicPr/>
          <p:nvPr/>
        </p:nvPicPr>
        <p:blipFill>
          <a:blip r:embed="rId2"/>
          <a:stretch/>
        </p:blipFill>
        <p:spPr>
          <a:xfrm>
            <a:off x="468360" y="40464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684360" y="7650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2133720"/>
            <a:ext cx="7634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入队仪式不可以与中队或大队的其他活动合并举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43280" y="501336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900000" y="148428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怎样为组织增光添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"/>
          <p:cNvPicPr/>
          <p:nvPr/>
        </p:nvPicPr>
        <p:blipFill>
          <a:blip r:embed="rId1"/>
          <a:srcRect l="0" t="3317" r="0" b="57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少先队队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09880" y="1509480"/>
            <a:ext cx="52560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继承革命先辈的光荣传统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爱祖国爱人民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鲜艳的红领巾飘扬在前胸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怕困难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怕敌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顽强学习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坚决斗争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"/>
          <p:cNvPicPr/>
          <p:nvPr/>
        </p:nvPicPr>
        <p:blipFill>
          <a:blip r:embed="rId1"/>
          <a:srcRect l="0" t="3317" r="0" b="57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1328760"/>
            <a:ext cx="52452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继承革命先辈的光荣路程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爱祖国爱人民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少先队员是我们骄傲的名称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时刻准备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建立功勋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要把敌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消灭干净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771640" y="1916280"/>
            <a:ext cx="38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队知识竞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484360" y="213372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必答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0" y="33336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我们队的创立者和领导者是（              ），党委托（                           ）直接领导我们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名是（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旗是（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礼是（               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代表（                                      ）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664080" y="23558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少年先锋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30800" y="3794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共产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476360" y="8650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共产主义青年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708360" y="37638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五角星加火炬的红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451320" y="52689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右手五指并拢，高举头上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070000" y="5989680"/>
            <a:ext cx="33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民的利益高于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79280" y="0"/>
            <a:ext cx="8640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作风是（    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呼号是：呼“准备着，为共产主义事业而奋斗！”回答：“（                             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标志是（              ），它代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国少年先锋队成立于（            ）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年是建队（               ）周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984480" y="8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诚实、勇敢、活泼、团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21360" y="2014560"/>
            <a:ext cx="20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刻准备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65680" y="34354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红领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239840" y="417204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红旗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521320" y="48988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084480" y="5649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260280"/>
            <a:ext cx="8820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大队由几个中队组成？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 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开始实施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生守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共有（       ）条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生日常行为规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（       ）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组织对少年儿童的入队年龄要求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 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 7-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员离队的年龄为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 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 1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小学毕业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92360" y="22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00000" y="278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877080" y="206064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875640" y="2840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847260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763640" y="2060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抢答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84360" y="1700280"/>
            <a:ext cx="784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下列活动哪些不属于队活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访问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故事会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野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参观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担任小交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参加商场的开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76720" y="5229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答案：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971640" y="1557360"/>
            <a:ext cx="7632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于少先队干部标志以及红领巾，我们对队员的要求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时时、处处要佩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重大节日要佩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由各中队自行决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276720" y="5589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8:06:55Z</dcterms:created>
  <dc:creator/>
  <dc:description/>
  <dc:language>en-US</dc:language>
  <cp:lastModifiedBy>cpzxsxz</cp:lastModifiedBy>
  <dcterms:modified xsi:type="dcterms:W3CDTF">2018-08-09T08:35:4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8</vt:lpwstr>
  </property>
</Properties>
</file>