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DE71-EE35-4EE8-A4AC-D20B0101C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9FFE-352B-4A4D-BA56-0C95BDEB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BDAC-30BF-4815-89E7-FE45F8F74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C4D5-0045-4DEC-8C6A-96FB88E0B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81B1-1903-4C74-A195-D4DA2067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BE30-AA52-43BF-BDDD-C9A9E85A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0E45-7BB3-4F84-B4E0-B7AAC49A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1CAA-DE78-4AF3-8A3C-03957A37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5AB6-AED2-4549-9049-1229161B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B796-9C85-4E4A-A34B-89EFBFE1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BE87-6F00-4DAD-B669-0EE58657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2DD1-D5C6-4AA1-A2B1-AF480E30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77D1-1F15-4EB6-9D2D-F436408FFA0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.office.microsoft.com/r/rlidRestrictedPermissionViewer?clid=2052" TargetMode="External"/><Relationship Id="rId3" Type="http://schemas.openxmlformats.org/officeDocument/2006/relationships/hyperlink" Target="http://r.office.microsoft.com/r/rlidRestrictedPermissionViewer?clid=2052" TargetMode="External"/><Relationship Id="rId4" Type="http://schemas.openxmlformats.org/officeDocument/2006/relationships/hyperlink" Target="http://r.office.microsoft.com/r/rlidRestrictedPermissionViewer?clid=2052" TargetMode="External"/><Relationship Id="rId5" Type="http://schemas.openxmlformats.org/officeDocument/2006/relationships/hyperlink" Target="http://r.office.microsoft.com/r/rlidRestrictedPermissionViewer?clid=2052" TargetMode="External"/><Relationship Id="rId6" Type="http://schemas.openxmlformats.org/officeDocument/2006/relationships/hyperlink" Target="http://r.office.microsoft.com/r/rlidRestrictedPermissionViewer?clid=2052" TargetMode="External"/><Relationship Id="rId7" Type="http://schemas.openxmlformats.org/officeDocument/2006/relationships/hyperlink" Target="http://r.office.microsoft.com/r/rlidRestrictedPermissionViewer?clid=2052" TargetMode="External"/><Relationship Id="rId8" Type="http://schemas.openxmlformats.org/officeDocument/2006/relationships/hyperlink" Target="http://r.office.microsoft.com/r/rlidDRMMoreInfoLicenseReq?clid=2052" TargetMode="External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2971800"/>
          </a:xfrm>
          <a:prstGeom prst="rect">
            <a:avLst/>
          </a:prstGeom>
          <a:solidFill>
            <a:srgbClr val="faf8ed"/>
          </a:solidFill>
          <a:ln w="3240">
            <a:solidFill>
              <a:srgbClr val="c0c0c0"/>
            </a:solidFill>
            <a:miter/>
          </a:ln>
        </p:spPr>
        <p:txBody>
          <a:bodyPr lIns="54864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对此演示文稿的权限当前受到限制。如果没有运行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Microsoft Office 2003 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或其他支持受限权限演示文稿的应用程序，您可以下载“用于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Internet Explorer 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的权限管理加载项”以阅读此演示文稿。单击“视图”菜单的“幻灯片放映”可以打开此链接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doNotEnter" descr=""/>
          <p:cNvPicPr/>
          <p:nvPr/>
        </p:nvPicPr>
        <p:blipFill>
          <a:blip r:embed="rId1"/>
          <a:stretch/>
        </p:blipFill>
        <p:spPr>
          <a:xfrm>
            <a:off x="314280" y="314280"/>
            <a:ext cx="295200" cy="295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09480" y="1828800"/>
            <a:ext cx="693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ea typeface="宋体"/>
                <a:hlinkClick r:id="rId2"/>
              </a:rPr>
              <a:t>下载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ea typeface="宋体"/>
                <a:hlinkClick r:id="rId3"/>
              </a:rPr>
              <a:t>“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ea typeface="宋体"/>
                <a:hlinkClick r:id="rId4"/>
              </a:rPr>
              <a:t>用于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Verdana"/>
                <a:ea typeface="宋体"/>
                <a:hlinkClick r:id="rId5"/>
              </a:rPr>
              <a:t>Internet Explorer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ea typeface="宋体"/>
                <a:hlinkClick r:id="rId6"/>
              </a:rPr>
              <a:t>的权限管理加载项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ea typeface="宋体"/>
                <a:hlinkClick r:id="rId7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2514600"/>
            <a:ext cx="693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ea typeface="宋体"/>
                <a:hlinkClick r:id="rId8"/>
              </a:rPr>
              <a:t>了解关于受限权限文档的更多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1T18:12:01Z</dcterms:created>
  <dc:creator/>
  <dc:description/>
  <dc:language>en-US</dc:language>
  <cp:lastModifiedBy/>
  <dcterms:modified xsi:type="dcterms:W3CDTF">2003-04-10T10:55:58Z</dcterms:modified>
  <cp:revision>84</cp:revision>
  <dc:subject/>
  <dc:title>Permission to this presentation is  currently restricted. This presentation can  be opened by Microsoft Office 11 Beta  or a viewer. For more information,  go to http://office.microsoft.com/viewer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24889819</vt:r8>
  </property>
</Properties>
</file>