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B38-AAA4-4941-9BFA-EC933DA073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28B-4CC4-4271-B97F-6E3E124B86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382A-A8A4-4AE7-91E8-554DEA3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A9BA-F05E-4614-83D8-59B4FC21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A249-41B3-4E91-99ED-DCDF289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8C2F1-DA74-48DD-8458-A734F6E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AAE2-684D-4F2B-9F66-9726543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E7EFD-17E1-45E8-8C3E-63093E8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75D9-D8EC-4DA8-8D90-04C6A3E1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465F-3148-486E-AF91-F96117D5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97C5-856A-4D15-8D71-A9511A79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F2BE1-2802-4E36-8063-8B1A0736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CC8FF-7A17-4FDA-A0C7-8D6BBE80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AC874-80D5-47F2-BDA4-A7355933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B676-2CBB-4872-87D0-B38D03CC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A58C4-3285-4249-8B63-BD1313A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F5EAF-3060-4E15-84AC-C4361745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A3EE-552D-4AEE-A926-2DAA07A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86FF3-A0AA-4A85-8190-E1BE146B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466D7-476B-41F9-A566-46B8D67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B2F4B-3B20-4BCE-A423-1F5DB49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9CC57-6576-4BFE-8773-4A6E9697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18652-A8D6-46BF-BEFD-F0E6D4D1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E3F0A-0E8E-487D-B947-D8508DCF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E111A-EA74-48CD-B265-DCB1D50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9451A-DD07-4495-8E08-5896C993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0FB96-3516-4292-901D-6BB71E1E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CCA78-A032-4152-A209-D6AC7A3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0BFE3-EA5A-4835-A9B7-A5010115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81380-5122-405C-9A50-DDF03D9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07777-27CB-49F6-B820-2692E16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89955-3B53-43D9-B612-63E89FC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1C4-79AA-4D79-A467-448464DC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88E12-2988-4D1B-83C0-AF93086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C6323-E8F9-45D0-A203-2D62CBE5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DFA80-F32D-4D8E-8CC6-36F18404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72D06-466B-4F31-9807-3E20FE71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A154-6A50-4E3A-AE0D-75DF94C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DD0A-6EA6-4EBF-8FC0-3F0A164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3D4C2-8E4C-4DEF-9CDA-1675861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F715F-43BE-4122-9D4A-42961AE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8BDA-88B5-4AA7-B1E1-4E269D0C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78C1B-EBEF-4E46-9FD2-071432C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0FB-A048-4F71-809D-329D5C7F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212AD-AC70-44D5-931A-DF56DF7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D8F11-023E-4A37-B42F-17C9C08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8F86-5CA0-4A44-9AA1-6E96C54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0D4D-0F12-425D-8D92-A99CFCC1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782F5-3108-48BB-8A19-6CCB7B8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C83-B476-49D7-9021-F796EC1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6F5-8383-4A19-9509-40F428F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30A-6F8C-491F-8893-2C12080C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CBC-2ACC-4D6B-B4B0-CD57EDA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8C1-421B-4CF3-AFB4-9EB92C1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A5B-3B66-41E3-B29D-E00AD78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910-E3B3-46B5-A3CC-36A8F1E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C91-EF7B-422D-8C6A-E88F694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40D-46D1-4D61-8256-F6D7AA21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0B4-B753-465E-AACE-88D3C720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CDDB-3784-46B6-8794-296A4061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72CF-6D76-4F41-988C-FA5803BD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CA4-A745-4E7E-BBE0-E7B2921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611F-C53A-4B63-ACEC-45D4A44F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F16-9207-4157-9040-67D34EC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14AF-B5AE-4312-874F-DE95BA2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1B5-FC1E-4D26-A475-44B2CCB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827D-BE90-4930-B8EA-E7F8F27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954-819A-4F9E-A4CC-6508269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0ED-FD2D-4AE9-B254-AB631881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7DA-0902-4F42-A9FB-11718573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D677-9ED8-4D48-92BD-D261C327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0C3B-3968-4BED-9A9E-759FED8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4783-A552-4AE6-A215-78355D9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8ECE-7BA3-4C7A-AC15-E74588D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AF03-C13B-4BB4-9099-DE6CBA02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9FA3-7603-4361-984F-2C450BA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64D5-9FBB-4C81-8F7E-39A5FE4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72DF-1C4F-4CCF-B96A-C0858036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427A-A18F-46EC-A893-C1E5729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063C-9CB1-42F1-9568-55A5B9C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F86F-274E-43AE-9FC4-3FA2FF24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DB75-2C4E-450A-94AF-6ECD4BE1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6D7F-AD93-491C-895C-0152ED00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96C2-C1F9-41A7-B8C2-F1E270BC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2818-846D-46DF-9ABA-35B6FDE0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0372-BA23-46F0-9550-966B4E2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BD5E-13F7-4A13-894E-C3B6ECC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8DC3-FA70-4BD4-9E08-197CADA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D7AC-B4EA-4D20-BE82-784A836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8D91-4E53-44ED-B1F4-69F7F4B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EF8B-6848-451C-AC4C-BF8DB92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52A3-499C-4780-9C2B-A34B14C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6B13-F5E2-4B6C-97B1-D1E7F73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45482-618D-469D-BF3F-36AA554A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E08E-C02F-4234-9733-0491629A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849C-0C4F-4D44-90E6-E016397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D628-6587-48FF-B607-B87FBB2F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CF34-1E5B-451A-A2F7-028FB9A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ECB1-CC2D-497A-B707-4375D54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1E52-F45F-403C-9563-12064614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427B-DECE-4674-A24C-DB21D380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821B-7F78-4F32-B253-7B839C2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DD99-CA9D-4C0A-BB72-D2ED535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FFDB-39C9-49A8-A137-C7B9122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2B9A-0787-4A59-AD91-81A95AF0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EB1D-1290-4E59-BF1C-458D2D99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3431-9DE1-4A98-BFED-E4E9F567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AE64-2337-4F43-A94A-D13D1F99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99B5-BC57-401F-8B9C-801EE56E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0314-3450-4520-BF67-EE1F4298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9A20-D055-4DF2-909E-751FA5CD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BBADB-1A43-4644-BE15-9A8C29E9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3577F-D2A3-42A8-9CAD-F027308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10D9-43AB-4AFA-BA41-48B890D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1D3E-17DE-47B5-A458-BD54233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54EA-FE98-4365-875E-227D9DF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DBDB-F24C-4AC5-A150-F51746E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4157-8BC9-471C-AF0D-B2379BDC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2309-7227-4638-A15F-2EBBF2B4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31294-5796-4F0B-859C-D09007BC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67603-77FC-4AFE-8687-0B01B47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85D6-E652-46D1-9E84-5F4D218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6AF90-F8DB-4130-8931-2CCB2612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9A84B-775B-4495-A9BF-EA94A839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A7CD-2E5C-481F-9765-6E440EB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3010F-E9AB-4E4A-813D-800CBD4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A5BF3-144F-4119-AC68-9604D34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372F-622F-444D-ABEC-058D175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46EA-A9F2-49C5-B38F-F19CAFD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7B5E-AA89-4C8E-8F47-EB16F6E8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3AEF-BA9A-48A5-9658-74D54146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F8B8-C8B9-451B-8869-95185207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433C-84CB-4AA2-A638-650D228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14A4-4701-45A8-AA04-2CF80ADB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5ED-B78C-45A2-A268-F4010F0AB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86A-3855-4EC5-945F-CCD569AC1C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3B6-9B16-4BC2-96EF-7741AB51D1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A011-E0D9-43DD-8120-438D7D9AB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360-007B-4123-8AB5-A79C72BF3E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894-095A-4C55-A97E-C188E5E8E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8E2-06EA-4541-AA81-DAEEB4AD0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05C-7AF6-43D3-98D6-E28216D4D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A52-5A8C-4A14-959A-7E19C2623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5C9-E4A2-44B3-A0A3-4A723F233C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6"/>
          <p:cNvSpPr/>
          <p:nvPr/>
        </p:nvSpPr>
        <p:spPr>
          <a:xfrm>
            <a:off x="0" y="46080"/>
            <a:ext cx="2160720" cy="2714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十六年前的回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614E-BA41-44F7-8476-79258AC7B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3"/>
          <p:cNvSpPr/>
          <p:nvPr/>
        </p:nvSpPr>
        <p:spPr>
          <a:xfrm>
            <a:off x="635040" y="1627200"/>
            <a:ext cx="7875720" cy="120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Box 1"/>
          <p:cNvSpPr/>
          <p:nvPr/>
        </p:nvSpPr>
        <p:spPr>
          <a:xfrm>
            <a:off x="3512880" y="555480"/>
            <a:ext cx="44467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卜算子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咏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风雨送春归，飞雪迎春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已是悬崖百丈冰，犹有花枝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俏也不争春，只把春来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待到山花烂漫时，她在丛中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684360" y="1347840"/>
            <a:ext cx="770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楷体"/>
              </a:rPr>
              <a:t>用心地读一读“被捕前”的部分，把你印象最深的地方勾画出来，把你的体会标注在旁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文本框 47106"/>
          <p:cNvSpPr/>
          <p:nvPr/>
        </p:nvSpPr>
        <p:spPr>
          <a:xfrm>
            <a:off x="6300720" y="249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捕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文本框 48129"/>
          <p:cNvSpPr/>
          <p:nvPr/>
        </p:nvSpPr>
        <p:spPr>
          <a:xfrm>
            <a:off x="108000" y="219384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父亲是很慈祥的，从来没骂过我们，更没打过我们。我总爱向父亲问许多幼稚可笑的问题。他不论多忙，对我的问题总是很感兴趣，总是耐心地讲给我听。这一次不知道为什么，父亲竟这样含糊地回答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文本框 48130"/>
          <p:cNvSpPr/>
          <p:nvPr/>
        </p:nvSpPr>
        <p:spPr>
          <a:xfrm>
            <a:off x="58680" y="-19080"/>
            <a:ext cx="892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我奇怪地问他∶“爹，为什么要烧掉呢？怪可惜的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"/>
                <a:ea typeface="楷体"/>
              </a:rPr>
              <a:t>　　待了一会儿，父亲才回答∶“不要了就烧掉。你小孩子家知道什么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矩形 48131"/>
          <p:cNvSpPr txBox="1"/>
          <p:nvPr/>
        </p:nvSpPr>
        <p:spPr>
          <a:xfrm>
            <a:off x="5364000" y="4300560"/>
            <a:ext cx="2716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为什么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文本框 49153"/>
          <p:cNvSpPr/>
          <p:nvPr/>
        </p:nvSpPr>
        <p:spPr>
          <a:xfrm>
            <a:off x="395280" y="1900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局势越来越严峻，父亲的工作也越来越紧张。他的朋友劝他离开北京，母亲也几次劝他。父亲坚决地对母亲说∶“不是常对你说吗？我是不能轻易离开北京的。你要知道现在是什么时候，这里的工作多么重要。我哪能离开呢？”母亲只好不再说什么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文本框 49154"/>
          <p:cNvSpPr/>
          <p:nvPr/>
        </p:nvSpPr>
        <p:spPr>
          <a:xfrm>
            <a:off x="396720" y="190008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局势越来越严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，父亲的工作也越来越紧张。他的朋友劝他离开北京，母亲也几次劝他。父亲坚决地对母亲说∶“不是常对你说吗？我是不能轻易离开北京的。你要知道现在是什么时候，这里的工作多么重要。我哪能离开呢？”母亲只好不再说什么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椭圆形标注 49155"/>
          <p:cNvSpPr/>
          <p:nvPr/>
        </p:nvSpPr>
        <p:spPr>
          <a:xfrm>
            <a:off x="1260360" y="88920"/>
            <a:ext cx="7056720" cy="1511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文本框 49156"/>
          <p:cNvSpPr/>
          <p:nvPr/>
        </p:nvSpPr>
        <p:spPr>
          <a:xfrm>
            <a:off x="1981080" y="244440"/>
            <a:ext cx="56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父亲早出晚归；②张作霖要派人检查；③父亲烧了一些书籍和文件；④含糊地对待我的提问；⑤工友阎振三被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89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文本框 50178"/>
          <p:cNvSpPr/>
          <p:nvPr/>
        </p:nvSpPr>
        <p:spPr>
          <a:xfrm>
            <a:off x="396720" y="172872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局势越来越严峻，父亲的工作也越来越紧张。他的朋友劝他离开北京，母亲也几次劝他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父亲坚决地对母亲说∶“不是常对你说吗？我是不能轻易离开北京的。你要知道现在是什么时候，这里的工作多么重要。我哪能离开呢？”母亲只好不再说什么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文本框 50180"/>
          <p:cNvSpPr/>
          <p:nvPr/>
        </p:nvSpPr>
        <p:spPr>
          <a:xfrm>
            <a:off x="396720" y="172872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局势越来越严峻，父亲的工作也越来越紧张。他的朋友劝他离开北京，母亲也几次劝他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父亲坚决地对母亲说∶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不是常对你说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我是不能轻易离开北京的。你要知道现在是什么时候，这里的工作多么重要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我哪能离开呢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”母亲只好不再说什么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文本框 50177"/>
          <p:cNvSpPr/>
          <p:nvPr/>
        </p:nvSpPr>
        <p:spPr>
          <a:xfrm>
            <a:off x="395280" y="1708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局势越来越严峻，父亲的工作也越来越紧张。他的朋友劝他离开北京，母亲也几次劝他。父亲坚决地对母亲说∶“不是常对你说吗？我是不能轻易离开北京的。你要知道现在是什么时候，这里的工作多么重要。我哪能离开呢？”母亲只好不再说什么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矩形 50179"/>
          <p:cNvSpPr txBox="1"/>
          <p:nvPr/>
        </p:nvSpPr>
        <p:spPr>
          <a:xfrm>
            <a:off x="1619280" y="573120"/>
            <a:ext cx="5543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父亲的话哪里最打动你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682560" y="1438200"/>
            <a:ext cx="8137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</a:rPr>
              <a:t>分角色读一读“被捕时”的部分，其他同学一边听一边思考：被捕时李大钊令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</a:rPr>
              <a:t>印象最深刻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</a:rPr>
              <a:t>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文本框 51202"/>
          <p:cNvSpPr/>
          <p:nvPr/>
        </p:nvSpPr>
        <p:spPr>
          <a:xfrm>
            <a:off x="6300720" y="249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捕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矩形 51203"/>
          <p:cNvSpPr/>
          <p:nvPr/>
        </p:nvSpPr>
        <p:spPr>
          <a:xfrm>
            <a:off x="1116000" y="3436920"/>
            <a:ext cx="698508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你</a:t>
            </a:r>
            <a:r>
              <a:rPr b="1" lang="zh-CN" sz="3600" spc="-1" strike="noStrike">
                <a:solidFill>
                  <a:srgbClr val="000099"/>
                </a:solidFill>
                <a:latin typeface="楷体"/>
              </a:rPr>
              <a:t>从哪些描写中感受到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23640" y="518760"/>
            <a:ext cx="844524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“没有什么，不要怕。星儿，跟我到外面看看去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矩形 52226"/>
          <p:cNvSpPr/>
          <p:nvPr/>
        </p:nvSpPr>
        <p:spPr>
          <a:xfrm>
            <a:off x="324000" y="1436760"/>
            <a:ext cx="84452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父亲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</a:rPr>
              <a:t>不慌不忙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地向外走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矩形 52227"/>
          <p:cNvSpPr/>
          <p:nvPr/>
        </p:nvSpPr>
        <p:spPr>
          <a:xfrm>
            <a:off x="317520" y="3143160"/>
            <a:ext cx="84456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父亲保持着他那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</a:rPr>
              <a:t>惯有的严峻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态度，没有向他们讲任何道理。因为他明白，对他们是没有道理可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矩形 52228"/>
          <p:cNvSpPr txBox="1"/>
          <p:nvPr/>
        </p:nvSpPr>
        <p:spPr>
          <a:xfrm>
            <a:off x="1692360" y="1168560"/>
            <a:ext cx="5543640" cy="62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只写了父亲吗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4" name="文本框 52229"/>
          <p:cNvSpPr/>
          <p:nvPr/>
        </p:nvSpPr>
        <p:spPr>
          <a:xfrm>
            <a:off x="5148360" y="2463840"/>
            <a:ext cx="3168720" cy="58140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语言、神态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文本框 53249"/>
          <p:cNvSpPr/>
          <p:nvPr/>
        </p:nvSpPr>
        <p:spPr>
          <a:xfrm>
            <a:off x="7920" y="43344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短短的一段新闻还没看完，就听见啪，啪……几声尖锐的枪声，接着是一阵纷乱的喊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会儿，外面传来一阵沉重的皮鞋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要放走一个！”窗外响起粗暴的吼声。穿灰制服和长筒皮靴的宪兵，穿便衣的侦探，穿黑制服的警察，一拥而入，挤满了这间小屋。他们像一群魔鬼似的，把我们包围起来。他们每人拿着一支手枪，枪口对着父亲和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个满脸横肉的便衣侦探指着父亲问阎振三∶“你认识他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哼！你不认识？我可认识他。”侦探冷笑着，又吩咐他手下的那一伙，“看好，别让他自杀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他们仔细地把父亲全身搜了一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残暴的匪徒把父亲绑起来，拖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文本框 53250"/>
          <p:cNvSpPr/>
          <p:nvPr/>
        </p:nvSpPr>
        <p:spPr>
          <a:xfrm>
            <a:off x="366840" y="771480"/>
            <a:ext cx="8426160" cy="1739880"/>
          </a:xfrm>
          <a:prstGeom prst="rect">
            <a:avLst/>
          </a:prstGeom>
          <a:solidFill>
            <a:srgbClr val="0033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什么？爹！”我瞪着眼睛问父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我紧跟在他身后，走出院子，暂时躲在一间僻静的小屋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文本框 53251"/>
          <p:cNvSpPr/>
          <p:nvPr/>
        </p:nvSpPr>
        <p:spPr>
          <a:xfrm>
            <a:off x="7591320" y="2565360"/>
            <a:ext cx="1079640" cy="58140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文本框 54273"/>
          <p:cNvSpPr/>
          <p:nvPr/>
        </p:nvSpPr>
        <p:spPr>
          <a:xfrm>
            <a:off x="6300720" y="249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法庭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682560" y="1438200"/>
            <a:ext cx="8137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楷体"/>
              </a:rPr>
              <a:t>认真读一读“法庭上”的部分，画出最令你感动的地方，说说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12720" y="1006560"/>
            <a:ext cx="80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父亲仍旧穿着他那件灰布旧棉袍，可是没戴眼镜。我看到了他那乱蓬蓬的长头发下面的平静而慈祥的脸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矩形 55298"/>
          <p:cNvSpPr/>
          <p:nvPr/>
        </p:nvSpPr>
        <p:spPr>
          <a:xfrm>
            <a:off x="611280" y="1012680"/>
            <a:ext cx="8064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父亲仍旧穿着他那件灰布旧棉袍，可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没戴眼镜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。我看到了他那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乱蓬蓬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的长头发下面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平静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慈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的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文本框 55299"/>
          <p:cNvSpPr/>
          <p:nvPr/>
        </p:nvSpPr>
        <p:spPr>
          <a:xfrm>
            <a:off x="5148360" y="2841480"/>
            <a:ext cx="3168720" cy="58140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外貌、神态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 txBox="1"/>
          <p:nvPr/>
        </p:nvSpPr>
        <p:spPr>
          <a:xfrm>
            <a:off x="179280" y="1306440"/>
            <a:ext cx="84981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父亲瞅了瞅我们，没有说一句话。他的神情非常安定，非常沉着。他的心被一种伟大的力量占据着。这个力量就是他平日对我们讲的—他对于革命事业的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矩形 56324"/>
          <p:cNvSpPr/>
          <p:nvPr/>
        </p:nvSpPr>
        <p:spPr>
          <a:xfrm>
            <a:off x="169920" y="1295280"/>
            <a:ext cx="849636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父亲瞅了瞅我们，没有说一句话。他的神情非常安定，非常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沉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他的心被一种伟大的力量占据着。这个力量就是他平日对我们讲的—他对于革命事业的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矩形 56323"/>
          <p:cNvSpPr txBox="1"/>
          <p:nvPr/>
        </p:nvSpPr>
        <p:spPr>
          <a:xfrm>
            <a:off x="971640" y="3544920"/>
            <a:ext cx="554364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为什么会如此沉着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6" name="椭圆形标注 56325"/>
          <p:cNvSpPr/>
          <p:nvPr/>
        </p:nvSpPr>
        <p:spPr>
          <a:xfrm flipH="1">
            <a:off x="1439280" y="485640"/>
            <a:ext cx="4606920" cy="809640"/>
          </a:xfrm>
          <a:prstGeom prst="wedgeEllipseCallout">
            <a:avLst>
              <a:gd name="adj1" fmla="val -28870"/>
              <a:gd name="adj2" fmla="val 117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"/>
              </a:rPr>
              <a:t>联系上下文解释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椭圆形标注 56326"/>
          <p:cNvSpPr/>
          <p:nvPr/>
        </p:nvSpPr>
        <p:spPr>
          <a:xfrm flipV="1">
            <a:off x="3348000" y="3002760"/>
            <a:ext cx="396072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"/>
              </a:rPr>
              <a:t>能说说对这句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"/>
              </a:rPr>
              <a:t>的理解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Picture 4" descr="李大钊像2"/>
          <p:cNvPicPr/>
          <p:nvPr/>
        </p:nvPicPr>
        <p:blipFill>
          <a:blip r:embed="rId1"/>
          <a:stretch/>
        </p:blipFill>
        <p:spPr>
          <a:xfrm>
            <a:off x="900000" y="681120"/>
            <a:ext cx="2448000" cy="3193920"/>
          </a:xfrm>
          <a:prstGeom prst="rect">
            <a:avLst/>
          </a:prstGeom>
          <a:ln w="0">
            <a:noFill/>
          </a:ln>
        </p:spPr>
      </p:pic>
      <p:sp>
        <p:nvSpPr>
          <p:cNvPr id="1340" name="Text Box 5"/>
          <p:cNvSpPr/>
          <p:nvPr/>
        </p:nvSpPr>
        <p:spPr>
          <a:xfrm>
            <a:off x="3635280" y="684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中国共产党的创始人之一。新文化运动和“五四”爱国运动的直接组织者和领导者。对中国早期马克思主义的传播起过重要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6"/>
          <p:cNvSpPr/>
          <p:nvPr/>
        </p:nvSpPr>
        <p:spPr>
          <a:xfrm>
            <a:off x="611280" y="397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李大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文本框 57345"/>
          <p:cNvSpPr/>
          <p:nvPr/>
        </p:nvSpPr>
        <p:spPr>
          <a:xfrm>
            <a:off x="6300720" y="249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害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682560" y="1438200"/>
            <a:ext cx="8137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楷体"/>
              </a:rPr>
              <a:t>默读最后三个自然段，结合文中的句子、词语或段落，说一说你感受到了什么，并试着读一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文本框 58369"/>
          <p:cNvSpPr/>
          <p:nvPr/>
        </p:nvSpPr>
        <p:spPr>
          <a:xfrm>
            <a:off x="395280" y="12762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回到家里，天已经全黑了。第二天，舅老爷到街上去买报。他是从街上哭着回来的，手里无力地握着一份报。我看到报上用头号字登着“李大钊等昨已执行绞刑”，立刻感到眼前蒙了一团云雾，昏倒在床上了。母亲伤心过度，昏过去三次，每次都是刚刚叫醒又昏过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过了好半天，母亲醒过来了，她低声问我∶“昨天是几号？记住，昨天是你爹被害的日子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又哭了，从地上捡起那张报纸，咬紧牙，又勉强看了一遍，低声对母亲说∶“妈，昨天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文本框 58370"/>
          <p:cNvSpPr/>
          <p:nvPr/>
        </p:nvSpPr>
        <p:spPr>
          <a:xfrm>
            <a:off x="395280" y="12762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回到家里，天已经全黑了。第二天，舅老爷到街上去买报。他是从街上哭着回来的，手里无力地握着一份报。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我看到报上用头号字登着“李大钊等昨已执行绞刑”，立刻感到眼前蒙了一团云雾，昏倒在床上了。母亲伤心过度，昏过去三次，每次都是刚刚叫醒又昏过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过了好半天，母亲醒过来了，她低声问我∶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“昨天是几号？记住，昨天是你爹被害的日子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我又哭了，从地上捡起那张报纸，咬紧牙，又勉强看了一遍，低声对母亲说∶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“妈，昨天是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月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28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文本框 58371"/>
          <p:cNvSpPr/>
          <p:nvPr/>
        </p:nvSpPr>
        <p:spPr>
          <a:xfrm>
            <a:off x="755640" y="412920"/>
            <a:ext cx="75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1927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28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日，我永远忘不了那一天。那是父亲的被难日，离现在已经十六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矩形 58372"/>
          <p:cNvSpPr txBox="1"/>
          <p:nvPr/>
        </p:nvSpPr>
        <p:spPr>
          <a:xfrm>
            <a:off x="1979640" y="3436920"/>
            <a:ext cx="5543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发现了什么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04" name="文本框 58373"/>
          <p:cNvSpPr/>
          <p:nvPr/>
        </p:nvSpPr>
        <p:spPr>
          <a:xfrm>
            <a:off x="5600880" y="1419120"/>
            <a:ext cx="3168360" cy="58140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外貌、神态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椭圆形标注 58374"/>
          <p:cNvSpPr/>
          <p:nvPr/>
        </p:nvSpPr>
        <p:spPr>
          <a:xfrm flipH="1">
            <a:off x="1260360" y="411120"/>
            <a:ext cx="4608720" cy="80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这样写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文本框 58375"/>
          <p:cNvSpPr/>
          <p:nvPr/>
        </p:nvSpPr>
        <p:spPr>
          <a:xfrm>
            <a:off x="395280" y="5143680"/>
            <a:ext cx="820908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从作者的表达角度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更加突出地表现了作者对父亲被害的事情记忆深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进一步表达了作者对父亲深深的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从读者的体会角度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读后对事情的来龙去脉了解得更加清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读后得到的印象和感受更加深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Text Box 5"/>
          <p:cNvSpPr/>
          <p:nvPr/>
        </p:nvSpPr>
        <p:spPr>
          <a:xfrm>
            <a:off x="0" y="241200"/>
            <a:ext cx="73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（开头段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7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日，我永远忘不了那一天。那是父亲的被难日，离现在已经十六年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6"/>
          <p:cNvSpPr/>
          <p:nvPr/>
        </p:nvSpPr>
        <p:spPr>
          <a:xfrm>
            <a:off x="0" y="2247840"/>
            <a:ext cx="75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（结尾段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又哭了，从地上捡起那张报纸，咬紧牙，又勉强看了一遍，低声对母亲说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妈，昨天是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日。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AutoShape 7"/>
          <p:cNvSpPr/>
          <p:nvPr/>
        </p:nvSpPr>
        <p:spPr>
          <a:xfrm>
            <a:off x="7164360" y="573120"/>
            <a:ext cx="503280" cy="3835440"/>
          </a:xfrm>
          <a:custGeom>
            <a:avLst/>
            <a:gdLst>
              <a:gd name="textAreaLeft" fmla="*/ 0 w 503280"/>
              <a:gd name="textAreaRight" fmla="*/ 181800 w 503280"/>
              <a:gd name="textAreaTop" fmla="*/ 132840 h 3835440"/>
              <a:gd name="textAreaBottom" fmla="*/ 3702600 h 383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8"/>
                  <a:pt x="10800" y="2396"/>
                </a:cubicBezTo>
                <a:lnTo>
                  <a:pt x="10800" y="8404"/>
                </a:lnTo>
                <a:cubicBezTo>
                  <a:pt x="10800" y="9602"/>
                  <a:pt x="16200" y="10800"/>
                  <a:pt x="21600" y="10800"/>
                </a:cubicBezTo>
                <a:cubicBezTo>
                  <a:pt x="16200" y="10800"/>
                  <a:pt x="10800" y="11998"/>
                  <a:pt x="10800" y="13196"/>
                </a:cubicBezTo>
                <a:lnTo>
                  <a:pt x="10800" y="19204"/>
                </a:lnTo>
                <a:cubicBezTo>
                  <a:pt x="10800" y="204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8"/>
          <p:cNvSpPr/>
          <p:nvPr/>
        </p:nvSpPr>
        <p:spPr>
          <a:xfrm>
            <a:off x="7619760" y="1436760"/>
            <a:ext cx="91152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前后照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9"/>
          <p:cNvSpPr/>
          <p:nvPr/>
        </p:nvSpPr>
        <p:spPr>
          <a:xfrm>
            <a:off x="7744680" y="1598760"/>
            <a:ext cx="13993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首尾连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WordArt 4"/>
          <p:cNvSpPr txBox="1"/>
          <p:nvPr/>
        </p:nvSpPr>
        <p:spPr>
          <a:xfrm>
            <a:off x="611280" y="1112760"/>
            <a:ext cx="73454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找出相照应的句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4"/>
          <p:cNvSpPr/>
          <p:nvPr/>
        </p:nvSpPr>
        <p:spPr>
          <a:xfrm>
            <a:off x="395280" y="896760"/>
            <a:ext cx="86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前后照应的好处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：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使读者对事情的来龙去脉了解得更加清楚，得到的印象和感受也更深刻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文本框 3"/>
          <p:cNvSpPr/>
          <p:nvPr/>
        </p:nvSpPr>
        <p:spPr>
          <a:xfrm>
            <a:off x="3471840" y="17082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Xingkai SC"/>
                <a:ea typeface="Xingkai SC"/>
              </a:rPr>
              <a:t>谢谢观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矩形 1"/>
          <p:cNvSpPr/>
          <p:nvPr/>
        </p:nvSpPr>
        <p:spPr>
          <a:xfrm>
            <a:off x="-60480" y="79200"/>
            <a:ext cx="2695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Text Box 3"/>
          <p:cNvSpPr/>
          <p:nvPr/>
        </p:nvSpPr>
        <p:spPr>
          <a:xfrm>
            <a:off x="635040" y="1627200"/>
            <a:ext cx="7875720" cy="120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矩形 2" descr=""/>
          <p:cNvPicPr/>
          <p:nvPr/>
        </p:nvPicPr>
        <p:blipFill>
          <a:blip r:embed="rId1"/>
          <a:stretch/>
        </p:blipFill>
        <p:spPr>
          <a:xfrm>
            <a:off x="255600" y="1414440"/>
            <a:ext cx="8626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323640" y="555120"/>
            <a:ext cx="844524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本课是革命先驱李大钊烈士的女儿李星华在</a:t>
            </a: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43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写的，这年正值李大钊同志遇难</a:t>
            </a: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年，所以文章题目叫</a:t>
            </a: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十六年前的回忆</a:t>
            </a: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这篇回忆录，把我们带到那腥风血雨的年代</a:t>
            </a:r>
            <a:r>
              <a:rPr b="1" lang="en-US" sz="4400" spc="-1" strike="noStrike">
                <a:solidFill>
                  <a:srgbClr val="008000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AutoShape 4"/>
          <p:cNvSpPr/>
          <p:nvPr/>
        </p:nvSpPr>
        <p:spPr>
          <a:xfrm>
            <a:off x="539640" y="250920"/>
            <a:ext cx="2592360" cy="10778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6"/>
          <p:cNvSpPr/>
          <p:nvPr/>
        </p:nvSpPr>
        <p:spPr>
          <a:xfrm>
            <a:off x="611280" y="3031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词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9"/>
          <p:cNvSpPr/>
          <p:nvPr/>
        </p:nvSpPr>
        <p:spPr>
          <a:xfrm>
            <a:off x="826920" y="16365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埋头 含糊 军阀 避免 局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僻静 魔鬼 苦刑 严峻 残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匪徒 拘留 法庭 安定 占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意 执行 过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矩形 1"/>
          <p:cNvSpPr/>
          <p:nvPr/>
        </p:nvSpPr>
        <p:spPr>
          <a:xfrm>
            <a:off x="539640" y="7128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糊：不明确；不清晰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军阀：指拥有武装部队，割据一方，自成派系的人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局势：泛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治、军事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时期内的发展情况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轻易：本课指十分容易随随便便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恐怖：惊慌、害怕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拥而入：形容很多人同时闯进门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严峻：严肃而厉害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会意：领会别人没有明确表达的意思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绞刑：死刑的一种，用绳子勒死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沉着：冷静，镇静，从容，不慌不忙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Text Box 5"/>
          <p:cNvSpPr/>
          <p:nvPr/>
        </p:nvSpPr>
        <p:spPr>
          <a:xfrm>
            <a:off x="0" y="1512720"/>
            <a:ext cx="59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标注段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6"/>
          <p:cNvSpPr/>
          <p:nvPr/>
        </p:nvSpPr>
        <p:spPr>
          <a:xfrm>
            <a:off x="17640" y="24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作者回忆的是一件什么事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7"/>
          <p:cNvSpPr/>
          <p:nvPr/>
        </p:nvSpPr>
        <p:spPr>
          <a:xfrm>
            <a:off x="395280" y="757080"/>
            <a:ext cx="75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初读课文，了解课文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8"/>
          <p:cNvSpPr/>
          <p:nvPr/>
        </p:nvSpPr>
        <p:spPr>
          <a:xfrm>
            <a:off x="3859200" y="155880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d2db9"/>
                </a:solidFill>
                <a:latin typeface="楷体_GB2312"/>
                <a:ea typeface="楷体_GB2312"/>
              </a:rPr>
              <a:t>（共</a:t>
            </a:r>
            <a:r>
              <a:rPr b="1" sz="3200" spc="-1" strike="noStrike">
                <a:solidFill>
                  <a:srgbClr val="2d2db9"/>
                </a:solidFill>
                <a:latin typeface="楷体_GB2312"/>
                <a:ea typeface="楷体_GB2312"/>
              </a:rPr>
              <a:t>32</a:t>
            </a:r>
            <a:r>
              <a:rPr b="1" sz="3200" spc="-1" strike="noStrike">
                <a:solidFill>
                  <a:srgbClr val="2d2db9"/>
                </a:solidFill>
                <a:latin typeface="楷体_GB2312"/>
                <a:ea typeface="楷体_GB2312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9"/>
          <p:cNvSpPr/>
          <p:nvPr/>
        </p:nvSpPr>
        <p:spPr>
          <a:xfrm>
            <a:off x="4003920" y="3354480"/>
            <a:ext cx="12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楷体_GB2312"/>
              </a:rPr>
              <a:t>作者重点回忆了父亲李大钊被害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Text Box 3" descr=""/>
          <p:cNvPicPr/>
          <p:nvPr/>
        </p:nvPicPr>
        <p:blipFill>
          <a:blip r:embed="rId1"/>
          <a:stretch/>
        </p:blipFill>
        <p:spPr>
          <a:xfrm>
            <a:off x="334800" y="1133640"/>
            <a:ext cx="8259840" cy="4024080"/>
          </a:xfrm>
          <a:prstGeom prst="rect">
            <a:avLst/>
          </a:prstGeom>
          <a:ln w="0">
            <a:noFill/>
          </a:ln>
        </p:spPr>
      </p:pic>
      <p:sp>
        <p:nvSpPr>
          <p:cNvPr id="1355" name="文本框 1"/>
          <p:cNvSpPr/>
          <p:nvPr/>
        </p:nvSpPr>
        <p:spPr>
          <a:xfrm>
            <a:off x="3765600" y="326556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927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539640" y="5742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~7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自然段：写父亲被捕前的一些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8~17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自然段：写父亲被捕的经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8~29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自然段：写父亲最后一次和我们见面的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0~3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自然段：写父亲被害后，一家人非常悲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文本框 46082"/>
          <p:cNvSpPr/>
          <p:nvPr/>
        </p:nvSpPr>
        <p:spPr>
          <a:xfrm>
            <a:off x="6659640" y="735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捕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文本框 46083"/>
          <p:cNvSpPr/>
          <p:nvPr/>
        </p:nvSpPr>
        <p:spPr>
          <a:xfrm>
            <a:off x="6659640" y="170820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捕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文本框 46084"/>
          <p:cNvSpPr/>
          <p:nvPr/>
        </p:nvSpPr>
        <p:spPr>
          <a:xfrm>
            <a:off x="6516720" y="278748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法庭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文本框 46085"/>
          <p:cNvSpPr/>
          <p:nvPr/>
        </p:nvSpPr>
        <p:spPr>
          <a:xfrm>
            <a:off x="6516720" y="4083120"/>
            <a:ext cx="1936800" cy="7034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被害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左箭头 46086"/>
          <p:cNvSpPr/>
          <p:nvPr/>
        </p:nvSpPr>
        <p:spPr>
          <a:xfrm>
            <a:off x="4356000" y="2084400"/>
            <a:ext cx="1224000" cy="865080"/>
          </a:xfrm>
          <a:prstGeom prst="leftArrow">
            <a:avLst>
              <a:gd name="adj1" fmla="val 50000"/>
              <a:gd name="adj2" fmla="val 265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文本框 46087"/>
          <p:cNvSpPr/>
          <p:nvPr/>
        </p:nvSpPr>
        <p:spPr>
          <a:xfrm>
            <a:off x="2332440" y="1328760"/>
            <a:ext cx="16426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时  间  顺  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0"/>
          <p:cNvSpPr/>
          <p:nvPr/>
        </p:nvSpPr>
        <p:spPr>
          <a:xfrm>
            <a:off x="422280" y="1488960"/>
            <a:ext cx="8031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、默读课文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-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自然段，并思考：作者回忆了十六年前的哪些事情？找出相对应的段落，概括地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58:46Z</dcterms:created>
  <dc:creator>wangliping</dc:creator>
  <dc:description/>
  <dc:language>en-US</dc:language>
  <cp:lastModifiedBy>dxq</cp:lastModifiedBy>
  <dcterms:modified xsi:type="dcterms:W3CDTF">2020-11-10T05:01:28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