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BC0-522F-4827-AF2C-C78959E6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69A-D487-4B1B-8A3E-1EC784A9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A64-1C2A-4699-9438-84A4BCD5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F53-C54F-4F3F-A7AD-18E42BD9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F73-C2E9-4684-B172-C454DE29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A4D-5F71-4269-9B2F-3C0CFA91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977-803A-453B-AEE4-E22E5D39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80D-6681-4DDF-A1F0-09C59213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DD1-32A0-4413-98B0-709DCB25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3AD-7529-467A-956D-257D1542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43F-D5C0-4D80-B418-A7F42993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323-8B0D-4D89-9993-EFC42C8F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9366-9075-47DD-9C41-1F8332846C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D8BF-D0C0-4CDE-9381-5CDFDA246C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1571760"/>
            <a:ext cx="40719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月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日的快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愚人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     </a:t>
            </a:r>
            <a:r>
              <a:rPr b="0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每年的四月一日，是西方的民间传统节日——愚人节（</a:t>
            </a:r>
            <a:r>
              <a:rPr b="0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April Fool's Day</a:t>
            </a:r>
            <a:r>
              <a:rPr b="0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），也称万愚节。对于它的起源众说纷纭：一种说法认为这一习俗源自印度的“诠俚节”。该节规定，每年三月三十一日的节日这天，不分男女老幼，可以互开玩笑、互相愚弄欺骗以换得娱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短信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你如果收到本信息，证明你手机已感染病毒，请马上取出手机卡，装入读卡器，插入电脑，用杀毒软件杀毒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警告：您此时的睡觉姿势不正确。为了您的身体健康，请您起来重睡……手机实时监测系统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手机免费通话秘技：有电话呼入时在第二次振铃前按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54sg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后按关机，此时通话免费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某天见你在超市把手伸进验价格的机器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,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显示猪蹄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8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元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,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你以为机器出了问题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,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把头伸进去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,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我差点笑死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: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猪头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18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元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一直好想问你一句话却又不敢贸然开口。特别是在宁静孤独的夜里，思绪万千让我辗转难眠，只好发短信问你…还尿床吗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超级愚人篇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有两句话一直很想对你说，今天终于提起勇气：第一句，我爱你我好喜欢你；第二句，千万不要把第一句当真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愚人节，我被人愚，我在厕所，无纸，速来救急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把夹心饼拆封，小心地拨开两片饼干，去掉原来的夹心，拿出牙膏挤出适量至饼中，然后将之放至明显处，自然而然就有人光顾品尝了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买瓶可乐，喝掉一半后，掺入醋、酱油、盐等佐料，精心调制一份色泽正常的怪味可乐。遇到熟人就大方地把可乐递上去…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超级愚人篇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5056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甲：除了人什么动物最爱问“为什么”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乙：不知道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甲：是猪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乙：为什么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哈！！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猪的英语拼写是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PUG</a:t>
            </a: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吧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不对，是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PI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不是吧，我怎么记得是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U</a:t>
            </a: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（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YOU</a:t>
            </a: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）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你弄错了，是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I </a:t>
            </a: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猪是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480" y="1714320"/>
            <a:ext cx="4429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多谢观看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00:00Z</dcterms:created>
  <dc:creator/>
  <dc:description/>
  <dc:language>en-US</dc:language>
  <cp:lastModifiedBy>Administrator</cp:lastModifiedBy>
  <cp:lastPrinted>1899-12-30T00:00:00Z</cp:lastPrinted>
  <dcterms:modified xsi:type="dcterms:W3CDTF">2014-04-01T01:19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