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17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25.wmf" ContentType="image/x-wmf"/>
  <Override PartName="/ppt/media/image26.png" ContentType="image/png"/>
  <Override PartName="/ppt/media/image12.wmf" ContentType="image/x-wmf"/>
  <Override PartName="/ppt/media/image4.png" ContentType="image/png"/>
  <Override PartName="/ppt/media/image13.png" ContentType="image/png"/>
  <Override PartName="/ppt/media/image34.wmf" ContentType="image/x-wmf"/>
  <Override PartName="/ppt/media/image9.wmf" ContentType="image/x-wmf"/>
  <Override PartName="/ppt/media/image39.wmf" ContentType="image/x-wmf"/>
  <Override PartName="/ppt/media/image40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44.png" ContentType="image/png"/>
  <Override PartName="/ppt/media/image46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6B6B-FF0C-4BC2-AFB1-7A0C4BB3C1A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BEF-2455-4B35-89C7-3BDB3EE87C5C}" type="slidenum">
              <a:rPr b="0" lang="zh-CN" sz="1200" spc="-1" strike="noStrike">
                <a:solidFill>
                  <a:srgbClr val="007a77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69D-0BDD-4414-93DC-46E94610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576-F44C-4EC4-9AD5-1F306A6B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27A-5914-4A88-9375-D8ADF651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A95-926B-4853-8731-D3C73640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EF30-9854-43BC-8A05-EDADDC66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DD8C-1E11-46CF-A4E6-CE5ED205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B634-387C-4698-8F80-E4E89349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AD6D-231A-45BB-87E7-5187D091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CA45-AD03-48C8-A9EA-AE5452AF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35AC-A01D-4BC8-AAE5-3860549E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40B2-4415-40E9-ADA7-0C7C660F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ACD-EC15-45CF-B487-677D774D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C16B-4287-44D5-BD28-75A630D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F773-BED2-40C3-A10B-D2C9ABE6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4381-5ED0-49BB-BFDA-AAED2564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CF37-224A-4C57-8BF3-DF1D6295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DD65-4211-470A-942D-3C4F401A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5DE-2C0E-4ADC-AF29-9D24E5FA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675-F174-43A8-9ED8-A0A34295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F11-1E9E-4FD3-85BD-2C1AB365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60D-2648-4E1E-8207-9E52B295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5FF-77CB-4E3E-A413-0670ED7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181-8D25-4721-8A03-8B7319E9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25F-B029-4006-981E-17C86A3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D4E4-9BD5-4D09-B6D5-74B90844D47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76BE-A27B-477B-B65B-B4F829898AC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7280" y="2363760"/>
            <a:ext cx="6118560" cy="182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4"/>
          <p:cNvSpPr/>
          <p:nvPr/>
        </p:nvSpPr>
        <p:spPr>
          <a:xfrm>
            <a:off x="974880" y="185904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if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语句最简单的格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直接连接符 6"/>
          <p:cNvSpPr/>
          <p:nvPr/>
        </p:nvSpPr>
        <p:spPr>
          <a:xfrm>
            <a:off x="1798560" y="2975040"/>
            <a:ext cx="139716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1953720" y="25750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1798560" y="3043080"/>
            <a:ext cx="15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语句序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直接连接符 10"/>
          <p:cNvSpPr/>
          <p:nvPr/>
        </p:nvSpPr>
        <p:spPr>
          <a:xfrm>
            <a:off x="1728720" y="3938760"/>
            <a:ext cx="76356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1802880" y="35560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4"/>
          <p:cNvSpPr/>
          <p:nvPr/>
        </p:nvSpPr>
        <p:spPr>
          <a:xfrm>
            <a:off x="743040" y="987480"/>
            <a:ext cx="6883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五、循环语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循环的格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循环变量＝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的格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    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直接连接符 6"/>
          <p:cNvSpPr/>
          <p:nvPr/>
        </p:nvSpPr>
        <p:spPr>
          <a:xfrm>
            <a:off x="3265560" y="2624040"/>
            <a:ext cx="2633760" cy="1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矩形 7"/>
          <p:cNvSpPr/>
          <p:nvPr/>
        </p:nvSpPr>
        <p:spPr>
          <a:xfrm>
            <a:off x="3560760" y="21556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初值：步长：终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1779480" y="2674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循环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直接连接符 10"/>
          <p:cNvSpPr/>
          <p:nvPr/>
        </p:nvSpPr>
        <p:spPr>
          <a:xfrm>
            <a:off x="2030400" y="4775040"/>
            <a:ext cx="1238400" cy="1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2135160" y="43354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2259000" y="485784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循环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经典习题奠基.TIF"/>
          <p:cNvPicPr/>
          <p:nvPr/>
        </p:nvPicPr>
        <p:blipFill>
          <a:blip r:embed="rId2"/>
          <a:stretch/>
        </p:blipFill>
        <p:spPr>
          <a:xfrm>
            <a:off x="716040" y="2743200"/>
            <a:ext cx="7750080" cy="60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399960" y="853920"/>
          <a:ext cx="7748640" cy="591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853920"/>
                    <a:ext cx="774864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746280" y="42750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681120" y="1378080"/>
          <a:ext cx="7900920" cy="3319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378080"/>
                    <a:ext cx="790092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676440" y="646200"/>
            <a:ext cx="758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教材习题改编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给出如图程序框图，其功能是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．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－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的值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．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－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的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．求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|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－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|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的值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．以上都不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1074600" y="558000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112760" y="5130720"/>
            <a:ext cx="74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析：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求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|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的值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849400" y="1362240"/>
            <a:ext cx="2854440" cy="248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4"/>
          <p:cNvGraphicFramePr/>
          <p:nvPr/>
        </p:nvGraphicFramePr>
        <p:xfrm>
          <a:off x="301680" y="1036800"/>
          <a:ext cx="7827840" cy="520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1036800"/>
                    <a:ext cx="782784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245280" y="917640"/>
            <a:ext cx="2544840" cy="3083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685800" y="3681360"/>
            <a:ext cx="27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765000" y="1938240"/>
          <a:ext cx="7726680" cy="20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5000" y="1938240"/>
                    <a:ext cx="77266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6"/>
          <p:cNvGraphicFramePr/>
          <p:nvPr/>
        </p:nvGraphicFramePr>
        <p:xfrm>
          <a:off x="598320" y="1366920"/>
          <a:ext cx="7899480" cy="309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8320" y="1366920"/>
                    <a:ext cx="789948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Box 8"/>
          <p:cNvSpPr/>
          <p:nvPr/>
        </p:nvSpPr>
        <p:spPr>
          <a:xfrm>
            <a:off x="1122480" y="4079880"/>
            <a:ext cx="479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析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,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606600" y="985680"/>
          <a:ext cx="7727760" cy="209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600" y="985680"/>
                    <a:ext cx="7727760" cy="20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992320" y="2128680"/>
            <a:ext cx="2882880" cy="3692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709560" y="895320"/>
            <a:ext cx="76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备考方向要明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76440" y="1374840"/>
          <a:ext cx="7767360" cy="2847960"/>
        </p:xfrm>
        <a:graphic>
          <a:graphicData uri="http://schemas.openxmlformats.org/drawingml/2006/table">
            <a:tbl>
              <a:tblPr/>
              <a:tblGrid>
                <a:gridCol w="7767360"/>
              </a:tblGrid>
              <a:tr h="47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考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什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么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了解算法的含义，了解算法的思想．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理解算法框图的三种基本结构：顺序结构、条件结构、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循环结构．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了解几种基本算法语句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——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入语句、输出语句、赋值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、条件语句、循环语句的含义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760320" y="1316160"/>
          <a:ext cx="7726320" cy="326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0320" y="1316160"/>
                    <a:ext cx="772632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1219320" y="4297320"/>
          <a:ext cx="3502080" cy="1244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4297320"/>
                    <a:ext cx="3502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关键要点点拨.TIF"/>
          <p:cNvPicPr/>
          <p:nvPr/>
        </p:nvPicPr>
        <p:blipFill>
          <a:blip r:embed="rId2"/>
          <a:stretch/>
        </p:blipFill>
        <p:spPr>
          <a:xfrm>
            <a:off x="655560" y="893880"/>
            <a:ext cx="7750080" cy="610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11360" y="1482840"/>
            <a:ext cx="7624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解决程序框图问题时应注意的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不要混淆处理框和输入框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注意区分条件结构和循环结构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3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注意区分当型循环和直到型循环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4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循环结构中要正确控制循环次数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(5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要注意各个框的顺序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814320" y="996840"/>
            <a:ext cx="745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语句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语句的联系与区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1)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适用于预先知道循环次数的循环结构，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循环结构首先要对表达式进行判断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在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循环语句中，循环变量的值与终值比较，结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为真时执行循环体，结果为假时，停止循环，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是先判断条件再执行循环体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3)fo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和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whil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中的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end”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的作用是控制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束一次循环，开始一次新的循环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明考向.tif"/>
          <p:cNvPicPr/>
          <p:nvPr/>
        </p:nvPicPr>
        <p:blipFill>
          <a:blip r:embed="rId2"/>
          <a:stretch/>
        </p:blipFill>
        <p:spPr>
          <a:xfrm>
            <a:off x="676440" y="2657520"/>
            <a:ext cx="8089560" cy="60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4"/>
          <p:cNvSpPr/>
          <p:nvPr/>
        </p:nvSpPr>
        <p:spPr>
          <a:xfrm>
            <a:off x="635040" y="1517760"/>
            <a:ext cx="76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精析考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]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011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新课标全国卷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执行如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所示的程序框图，如果输入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那么输出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         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　　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2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 440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 04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635040" y="855720"/>
            <a:ext cx="7500960" cy="662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051600" y="1947960"/>
            <a:ext cx="2084400" cy="349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474840" y="826920"/>
            <a:ext cx="842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自主解答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输入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由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因此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·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此时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此时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×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此时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×3×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此时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×3×4×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此时满足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×2×3×4×5×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2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此时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lt;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不再成立，因此输出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20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474840" y="51516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716040" y="673200"/>
            <a:ext cx="78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巧练模拟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]——————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课堂突破保分题，分分必保！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666720" y="1150920"/>
            <a:ext cx="484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012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临沂检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执行如图所示的程序框图，若输出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则判断框内应填入的条件是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8" name="Picture 1" descr="9-27.tif"/>
          <p:cNvPicPr/>
          <p:nvPr/>
        </p:nvPicPr>
        <p:blipFill>
          <a:blip r:embed="rId2"/>
          <a:stretch/>
        </p:blipFill>
        <p:spPr>
          <a:xfrm>
            <a:off x="5665680" y="1249200"/>
            <a:ext cx="1710000" cy="3565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5"/>
          <p:cNvSpPr/>
          <p:nvPr/>
        </p:nvSpPr>
        <p:spPr>
          <a:xfrm>
            <a:off x="666720" y="331632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7                         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6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5                         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2"/>
          <p:cNvSpPr/>
          <p:nvPr/>
        </p:nvSpPr>
        <p:spPr>
          <a:xfrm>
            <a:off x="874800" y="517860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874800" y="1103400"/>
            <a:ext cx="747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析：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一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二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三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7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四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1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第五次循环：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×4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满足条件则输出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的值，而此时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故判断框内应填入的条件应是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5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2"/>
          <p:cNvGraphicFramePr/>
          <p:nvPr/>
        </p:nvGraphicFramePr>
        <p:xfrm>
          <a:off x="806400" y="1341360"/>
          <a:ext cx="5459400" cy="383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6400" y="1341360"/>
                    <a:ext cx="545940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3" descr="E:\忘记你\课件\2012年高三一轮\大样\新课标\三维\人教B版数学6-10章（接杨玉翠②换格式）+\9-51.TIF"/>
          <p:cNvPicPr/>
          <p:nvPr/>
        </p:nvPicPr>
        <p:blipFill>
          <a:blip r:embed="rId4"/>
          <a:stretch/>
        </p:blipFill>
        <p:spPr>
          <a:xfrm>
            <a:off x="6229440" y="1332000"/>
            <a:ext cx="1900080" cy="2612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961920" y="1125360"/>
          <a:ext cx="7601040" cy="414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1920" y="1125360"/>
                    <a:ext cx="760104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Box 2"/>
          <p:cNvSpPr/>
          <p:nvPr/>
        </p:nvSpPr>
        <p:spPr>
          <a:xfrm>
            <a:off x="873000" y="4915080"/>
            <a:ext cx="39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09560" y="1317600"/>
          <a:ext cx="7766280" cy="2738520"/>
        </p:xfrm>
        <a:graphic>
          <a:graphicData uri="http://schemas.openxmlformats.org/drawingml/2006/table">
            <a:tbl>
              <a:tblPr/>
              <a:tblGrid>
                <a:gridCol w="7766280"/>
              </a:tblGrid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怎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么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考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从高考内容上来看，循环结构与条件分支结构是考查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热点．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题型多为选择、填空题，注重算法思想的应用，难度中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低档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735120" y="1031760"/>
            <a:ext cx="78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冲关锦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735120" y="1600200"/>
            <a:ext cx="795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解决程序框图问题要注意几个常用变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计数变量：用来记录某个事件发生的次数，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累加变量：用来计算数据之和，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累乘变量：用来计算数据之积，如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处理循环结构的框图问题，关键是理解并认清终止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环结构的条件及循环次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795240" y="1006560"/>
            <a:ext cx="7515360" cy="6238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795240" y="1630440"/>
            <a:ext cx="75153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精析考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]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011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陕西高考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下图中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为某次考试三个评阅人对同一道题的独立评分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为该题的最终得分．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.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等于 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944640" y="4646520"/>
            <a:ext cx="75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　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844720" y="893880"/>
            <a:ext cx="2192400" cy="410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685800" y="2008080"/>
          <a:ext cx="7910640" cy="2335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08080"/>
                    <a:ext cx="791064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2"/>
          <p:cNvSpPr/>
          <p:nvPr/>
        </p:nvSpPr>
        <p:spPr>
          <a:xfrm>
            <a:off x="1152360" y="345276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606600" y="976320"/>
          <a:ext cx="7981920" cy="70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600" y="976320"/>
                    <a:ext cx="79819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5"/>
          <p:cNvGraphicFramePr/>
          <p:nvPr/>
        </p:nvGraphicFramePr>
        <p:xfrm>
          <a:off x="971640" y="1679400"/>
          <a:ext cx="5513400" cy="4162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1679400"/>
                    <a:ext cx="5513400" cy="41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Picture 6" descr="E:\忘记你\课件\2012年高三一轮\大样\新课标\三维\人教B版数学6-10章（接杨玉翠②换格式）+\9-31.TIF"/>
          <p:cNvPicPr/>
          <p:nvPr/>
        </p:nvPicPr>
        <p:blipFill>
          <a:blip r:embed="rId6"/>
          <a:stretch/>
        </p:blipFill>
        <p:spPr>
          <a:xfrm>
            <a:off x="6485040" y="1971720"/>
            <a:ext cx="2103480" cy="2563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4"/>
          <p:cNvGraphicFramePr/>
          <p:nvPr/>
        </p:nvGraphicFramePr>
        <p:xfrm>
          <a:off x="770040" y="1141560"/>
          <a:ext cx="7951680" cy="473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0040" y="1141560"/>
                    <a:ext cx="79516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Picture 5" descr="E:\忘记你\课件\2012年高三一轮\大样\新课标\三维\人教B版数学6-10章（接杨玉翠②换格式）+\9-32.TIF"/>
          <p:cNvPicPr/>
          <p:nvPr/>
        </p:nvPicPr>
        <p:blipFill>
          <a:blip r:embed="rId4"/>
          <a:stretch/>
        </p:blipFill>
        <p:spPr>
          <a:xfrm>
            <a:off x="5818320" y="1862280"/>
            <a:ext cx="2100240" cy="1941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>
            <a:off x="695160" y="5003640"/>
            <a:ext cx="38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631800" y="614520"/>
            <a:ext cx="788832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2012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大连模拟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图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是某学生的数学考试成绩茎叶图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第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次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次的考试成绩依次记为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…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是统计茎叶图中成绩在一定范围内考试次数的一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程序框图．那么程序框图输出的结果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7" name="Picture 5" descr="E:\忘记你\课件\2012年高三一轮\大样\新课标\三维\人教B版数学6-10章（接杨玉翠②换格式）+\9-63.TIF"/>
          <p:cNvPicPr/>
          <p:nvPr/>
        </p:nvPicPr>
        <p:blipFill>
          <a:blip r:embed="rId2"/>
          <a:stretch/>
        </p:blipFill>
        <p:spPr>
          <a:xfrm>
            <a:off x="4560840" y="2913120"/>
            <a:ext cx="2482920" cy="2816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185840" y="2771640"/>
            <a:ext cx="2792520" cy="3103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54040" y="581976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图</a:t>
            </a:r>
            <a:r>
              <a:rPr b="1" lang="en-US" sz="1800" spc="-1" strike="noStrike">
                <a:solidFill>
                  <a:srgbClr val="007a77"/>
                </a:solidFill>
                <a:latin typeface="方正楷体_GBK"/>
                <a:ea typeface="方正楷体_GBK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860400" y="1989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解析：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该程序框图的功能是确定考试成绩大于或等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9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分的考试次数．观察茎叶图可知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2"/>
          <p:cNvSpPr/>
          <p:nvPr/>
        </p:nvSpPr>
        <p:spPr>
          <a:xfrm>
            <a:off x="735120" y="114948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冲关锦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766800" y="1874880"/>
            <a:ext cx="755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识别运行程序框图及应用是高考的热点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解答这一类问题首先要明确程序框图的顺序结构、条件结构和循环结构；第二要理解程序框图与哪一部分知识相结合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如函数、数列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进行考查；第三根据问题实施解答并验证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2"/>
          <a:stretch/>
        </p:blipFill>
        <p:spPr>
          <a:xfrm>
            <a:off x="704880" y="774720"/>
            <a:ext cx="7539120" cy="69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2"/>
          <p:cNvGraphicFramePr/>
          <p:nvPr/>
        </p:nvGraphicFramePr>
        <p:xfrm>
          <a:off x="915840" y="1511280"/>
          <a:ext cx="7410600" cy="407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5840" y="1511280"/>
                    <a:ext cx="74106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Box 3"/>
          <p:cNvSpPr/>
          <p:nvPr/>
        </p:nvSpPr>
        <p:spPr>
          <a:xfrm>
            <a:off x="879480" y="3693960"/>
            <a:ext cx="74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主解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输出的结果为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887400" y="520524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教材知识再现.TIF"/>
          <p:cNvPicPr/>
          <p:nvPr/>
        </p:nvPicPr>
        <p:blipFill>
          <a:blip r:embed="rId2"/>
          <a:stretch/>
        </p:blipFill>
        <p:spPr>
          <a:xfrm>
            <a:off x="603360" y="1063800"/>
            <a:ext cx="7750080" cy="610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1"/>
          <p:cNvSpPr/>
          <p:nvPr/>
        </p:nvSpPr>
        <p:spPr>
          <a:xfrm>
            <a:off x="603360" y="2151000"/>
            <a:ext cx="836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、程序框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通常用一些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构成一张图来表示算法．这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图称作程序框图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简称框图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基本的程序框图有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等图形符号和连接线构成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804760" y="280368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用图形符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4114440" y="3878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起、止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6051240" y="3878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输入、输出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7477920" y="388944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处理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矩形 19"/>
          <p:cNvSpPr/>
          <p:nvPr/>
        </p:nvSpPr>
        <p:spPr>
          <a:xfrm>
            <a:off x="1248480" y="444024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判断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>
            <a:off x="2693160" y="44514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流程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763560" y="7412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巧练模拟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]—————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课堂突破保分题，分分必保！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763560" y="1519200"/>
            <a:ext cx="69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2011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滨州质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写出下面程序运行后的结果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155600" y="5340240"/>
            <a:ext cx="62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596960" y="2085840"/>
            <a:ext cx="4156200" cy="302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927000" y="1592280"/>
          <a:ext cx="7266240" cy="314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7000" y="1592280"/>
                    <a:ext cx="726624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Box 6"/>
          <p:cNvSpPr/>
          <p:nvPr/>
        </p:nvSpPr>
        <p:spPr>
          <a:xfrm>
            <a:off x="882720" y="4464000"/>
            <a:ext cx="45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.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0.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"/>
          <p:cNvSpPr/>
          <p:nvPr/>
        </p:nvSpPr>
        <p:spPr>
          <a:xfrm>
            <a:off x="841320" y="1301760"/>
            <a:ext cx="744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冲关锦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输入语句．输出语句和赋值语句基本对应于算法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顺序结构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在循环语句中也可以嵌套条件语句，甚至是循环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句，此时需要注意嵌套格式，这些语句需要保证算法的完整性，否则就会造成程序无法执行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提能力.tif"/>
          <p:cNvPicPr/>
          <p:nvPr/>
        </p:nvPicPr>
        <p:blipFill>
          <a:blip r:embed="rId2"/>
          <a:stretch/>
        </p:blipFill>
        <p:spPr>
          <a:xfrm>
            <a:off x="496800" y="2236680"/>
            <a:ext cx="8199360" cy="608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教你一招.tif"/>
          <p:cNvPicPr/>
          <p:nvPr/>
        </p:nvPicPr>
        <p:blipFill>
          <a:blip r:embed="rId2"/>
          <a:stretch/>
        </p:blipFill>
        <p:spPr>
          <a:xfrm>
            <a:off x="695160" y="2255760"/>
            <a:ext cx="2605320" cy="795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300480" y="2475000"/>
            <a:ext cx="4930560" cy="547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797040" y="1539720"/>
            <a:ext cx="762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考题范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2011·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安徽高考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如图所示，程序框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算法流程图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的输出结果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880240" y="1846440"/>
            <a:ext cx="2408040" cy="2898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963720" y="1122480"/>
          <a:ext cx="7526160" cy="4243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3720" y="1122480"/>
                    <a:ext cx="752616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Box 2"/>
          <p:cNvSpPr/>
          <p:nvPr/>
        </p:nvSpPr>
        <p:spPr>
          <a:xfrm>
            <a:off x="873000" y="416880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：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706320" y="12430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高手点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在解决循环结构问题时，一定要弄明白计数变量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累加变量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．读程序框图时，要注意循环结构的终止条件．如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题中很容易在确定最后输出的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值时，易认为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1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而出错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00040" y="6382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二、三种基本逻辑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6600" y="1255680"/>
          <a:ext cx="7934040" cy="4608720"/>
        </p:xfrm>
        <a:graphic>
          <a:graphicData uri="http://schemas.openxmlformats.org/drawingml/2006/table">
            <a:tbl>
              <a:tblPr/>
              <a:tblGrid>
                <a:gridCol w="1357200"/>
                <a:gridCol w="2143080"/>
                <a:gridCol w="2360520"/>
                <a:gridCol w="2073240"/>
              </a:tblGrid>
              <a:tr h="10238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内容　　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顺序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条件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循环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4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定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最简单的算法结构，语句与语句之间，框与框之间按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顺序进行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依据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条件选择执行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控制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根据指定条件决定是否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一条或多条指令的控制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矩形 10"/>
          <p:cNvSpPr/>
          <p:nvPr/>
        </p:nvSpPr>
        <p:spPr>
          <a:xfrm>
            <a:off x="2120040" y="4643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从上到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4780440" y="33098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指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>
            <a:off x="5084640" y="4299120"/>
            <a:ext cx="131616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5155560" y="38386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同指令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直接连接符 17"/>
          <p:cNvSpPr/>
          <p:nvPr/>
        </p:nvSpPr>
        <p:spPr>
          <a:xfrm>
            <a:off x="7737480" y="3833640"/>
            <a:ext cx="803160" cy="1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矩形 18"/>
          <p:cNvSpPr/>
          <p:nvPr/>
        </p:nvSpPr>
        <p:spPr>
          <a:xfrm>
            <a:off x="7776000" y="33577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重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矩形 19"/>
          <p:cNvSpPr/>
          <p:nvPr/>
        </p:nvSpPr>
        <p:spPr>
          <a:xfrm>
            <a:off x="6640920" y="38210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执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93720" y="1173240"/>
          <a:ext cx="7786800" cy="4624200"/>
        </p:xfrm>
        <a:graphic>
          <a:graphicData uri="http://schemas.openxmlformats.org/drawingml/2006/table">
            <a:tbl>
              <a:tblPr/>
              <a:tblGrid>
                <a:gridCol w="1539720"/>
                <a:gridCol w="2081520"/>
                <a:gridCol w="2082600"/>
                <a:gridCol w="2082960"/>
              </a:tblGrid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内容　　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顺序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条件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循环结构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程序框图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3" descr="E:\忘记你\课件\2012年高三一轮\大样\新课标\三维\人教B版数学6-10章（接杨玉翠②换格式）+\9-46.tif"/>
          <p:cNvPicPr/>
          <p:nvPr/>
        </p:nvPicPr>
        <p:blipFill>
          <a:blip r:embed="rId2"/>
          <a:stretch/>
        </p:blipFill>
        <p:spPr>
          <a:xfrm>
            <a:off x="2684520" y="2743200"/>
            <a:ext cx="912600" cy="1536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4" descr="E:\忘记你\课件\2012年高三一轮\大样\新课标\三维\人教B版数学6-10章（接杨玉翠②换格式）+\9-47.tif"/>
          <p:cNvPicPr/>
          <p:nvPr/>
        </p:nvPicPr>
        <p:blipFill>
          <a:blip r:embed="rId3"/>
          <a:stretch/>
        </p:blipFill>
        <p:spPr>
          <a:xfrm>
            <a:off x="4451400" y="2432160"/>
            <a:ext cx="1728720" cy="2273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E:\忘记你\课件\2012年高三一轮\大样\新课标\三维\人教B版数学6-10章（接杨玉翠②换格式）+\9-48.tif"/>
          <p:cNvPicPr/>
          <p:nvPr/>
        </p:nvPicPr>
        <p:blipFill>
          <a:blip r:embed="rId4"/>
          <a:stretch/>
        </p:blipFill>
        <p:spPr>
          <a:xfrm>
            <a:off x="6783480" y="2620800"/>
            <a:ext cx="1214280" cy="2543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544680" y="7556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、赋值、输入和输出语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17520" y="1305000"/>
          <a:ext cx="8559720" cy="4465440"/>
        </p:xfrm>
        <a:graphic>
          <a:graphicData uri="http://schemas.openxmlformats.org/drawingml/2006/table">
            <a:tbl>
              <a:tblPr/>
              <a:tblGrid>
                <a:gridCol w="1023840"/>
                <a:gridCol w="4068720"/>
                <a:gridCol w="346716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一般格式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功能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scilab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程度中用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入语句来控制在屏幕上输入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可输入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、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出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print(%io(2)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it-IT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it-IT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it-IT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c)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参数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%io(2)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表示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以某种形式把</a:t>
                      </a: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 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输出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出来．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矩形 19"/>
          <p:cNvSpPr/>
          <p:nvPr/>
        </p:nvSpPr>
        <p:spPr>
          <a:xfrm>
            <a:off x="3867480" y="2179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6516360" y="2571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数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直接连接符 7"/>
          <p:cNvSpPr/>
          <p:nvPr/>
        </p:nvSpPr>
        <p:spPr>
          <a:xfrm>
            <a:off x="7458120" y="3003480"/>
            <a:ext cx="792000" cy="1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7530840" y="22240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字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直接连接符 10"/>
          <p:cNvSpPr/>
          <p:nvPr/>
        </p:nvSpPr>
        <p:spPr>
          <a:xfrm>
            <a:off x="3262320" y="5322960"/>
            <a:ext cx="203976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3493800" y="482436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屏幕上输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7384320" y="40831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求解结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7"/>
          <p:cNvSpPr/>
          <p:nvPr/>
        </p:nvSpPr>
        <p:spPr>
          <a:xfrm>
            <a:off x="2032560" y="303228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变量名＝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5464080" y="23814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赋值号右边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586560" y="30322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赋值号左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4473360" y="4070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0000" y="35370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变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3400" y="3537000"/>
            <a:ext cx="17161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03160" y="1760400"/>
          <a:ext cx="7512120" cy="2919600"/>
        </p:xfrm>
        <a:graphic>
          <a:graphicData uri="http://schemas.openxmlformats.org/drawingml/2006/table">
            <a:tbl>
              <a:tblPr/>
              <a:tblGrid>
                <a:gridCol w="882720"/>
                <a:gridCol w="2536920"/>
                <a:gridCol w="40924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一般形式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作用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赋值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计算出</a:t>
                      </a: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    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值，把该值赋给</a:t>
                      </a: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  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，使该变量的值等于</a:t>
                      </a:r>
                      <a:r>
                        <a:rPr b="1" lang="en-US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7a77"/>
                          </a:solidFill>
                          <a:uFillTx/>
                          <a:latin typeface="Arial"/>
                          <a:ea typeface="宋体"/>
                        </a:rPr>
                        <a:t>               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的值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790640" y="3780000"/>
            <a:ext cx="23288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690480" y="1052640"/>
            <a:ext cx="790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、条件语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处理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的算法语句，叫做条件语句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语句的一般格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else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095560" y="16606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条件分支逻辑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直接连接符 6"/>
          <p:cNvSpPr/>
          <p:nvPr/>
        </p:nvSpPr>
        <p:spPr>
          <a:xfrm>
            <a:off x="1244520" y="3117960"/>
            <a:ext cx="156708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1349640" y="2674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达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2062800" y="33051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语句序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2051640" y="4402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语句序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直接连接符 11"/>
          <p:cNvSpPr/>
          <p:nvPr/>
        </p:nvSpPr>
        <p:spPr>
          <a:xfrm>
            <a:off x="1103400" y="5438880"/>
            <a:ext cx="706320" cy="1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1065600" y="5046840"/>
            <a:ext cx="7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1:34:07Z</dcterms:created>
  <dc:creator>ン葬、流年</dc:creator>
  <dc:description/>
  <dc:language>en-US</dc:language>
  <cp:lastModifiedBy>微软用户</cp:lastModifiedBy>
  <dcterms:modified xsi:type="dcterms:W3CDTF">2013-01-03T07:07:19Z</dcterms:modified>
  <cp:revision>80</cp:revision>
  <dc:subject/>
  <dc:title>幻灯片 1</dc:title>
</cp:coreProperties>
</file>