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0CA25-DAC9-46A4-81D5-4569F346BF5D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EB1AB-AC6E-456E-9A72-F1C8AA97FA2F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D39BA-6149-419A-A4FB-DBADBC509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2B5D3-3E3C-42E3-9354-5A1D6DA36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88181-D195-4755-85AB-104CA0675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F9140-1808-4956-95FF-A0891FC6E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4C5A1-EB28-46BE-ACCB-64947BE85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057B8-8483-458F-9B27-CEAF577C5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8874A-3AE4-4ACB-BAB6-466229E14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9D5A8-4553-4769-A7F0-CEFBA7CD0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C9CE0-D56F-4A61-BC1D-717B2A002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A790A-0EB2-4246-B250-D3A591337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88867-2FF4-4B18-97E7-0BDB1DA19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26918-692E-4233-B404-0DB8A9FEC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84393-E92E-417A-AEA0-155946ACC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3778B-A8CF-4DDA-964E-78DB7BE16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C36D5-A00A-40AB-A3D6-86FE8727F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07F8B-E3B7-4247-97C2-1B4645FDB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EA152-DD0F-4E8E-95AC-6A15E81CE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8BB4E-E885-46AD-B275-DD06857A3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266B7-8A4A-45E6-9DCC-E274A0AA4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35F4E-9B45-4A10-8C44-329711AF4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621EE-5255-4B10-A4FA-C2B02F22A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1CF11-C91D-43CD-9715-E320E8F87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A8A0C-9BCD-4CF6-969B-E33D069E7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CC770-92A0-45FD-AEC3-1D813AF34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0007D-F444-431B-942E-E690D90DDA60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16F39-1F21-4C71-8600-D26A0615DA11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09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Text Box 15"/>
          <p:cNvSpPr/>
          <p:nvPr/>
        </p:nvSpPr>
        <p:spPr>
          <a:xfrm>
            <a:off x="1401840" y="4427640"/>
            <a:ext cx="6340320" cy="145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6 </a:t>
            </a: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辛弃疾词两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水龙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9"/>
          <p:cNvSpPr/>
          <p:nvPr/>
        </p:nvSpPr>
        <p:spPr>
          <a:xfrm>
            <a:off x="3921480" y="3602160"/>
            <a:ext cx="1532520" cy="9471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第二单元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矩形 3"/>
          <p:cNvSpPr/>
          <p:nvPr/>
        </p:nvSpPr>
        <p:spPr>
          <a:xfrm>
            <a:off x="952560" y="1628640"/>
            <a:ext cx="732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4.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“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倩何人唤取，红巾翠袖，揾英雄泪？”表达作者什么样的思想感情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矩形 3"/>
          <p:cNvSpPr/>
          <p:nvPr/>
        </p:nvSpPr>
        <p:spPr>
          <a:xfrm>
            <a:off x="909720" y="3147840"/>
            <a:ext cx="74134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【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提示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】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辛弃疾此词结语，既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自伤抱负不能实现，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又叹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世无知己，得不到同情与慰藉。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写出了英雄失路的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孤独与痛苦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2"/>
          <p:cNvSpPr/>
          <p:nvPr/>
        </p:nvSpPr>
        <p:spPr>
          <a:xfrm>
            <a:off x="942840" y="1909800"/>
            <a:ext cx="743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上片所写景物，是作者登临时即目所见，从中引出漂泊南方、渴望报国，而无用武之地的幽愤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Rectangle 3"/>
          <p:cNvSpPr/>
          <p:nvPr/>
        </p:nvSpPr>
        <p:spPr>
          <a:xfrm>
            <a:off x="514440" y="2981160"/>
            <a:ext cx="768672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下片述怀言志，三个典故叠用，表达收复失地的壮志、壮志难酬的悲愤以及知音难觅的痛苦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Rectangle 5"/>
          <p:cNvSpPr/>
          <p:nvPr/>
        </p:nvSpPr>
        <p:spPr>
          <a:xfrm>
            <a:off x="942840" y="4113360"/>
            <a:ext cx="725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　　这首词作者通过写登建康赏心亭的所见所感，抒发作者收复失地，统一祖国的雄心壮志和功业未成的苦闷心情，表现对南宋统治者苟且偷安的批判，表达深沉的爱国之情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矩形 3"/>
          <p:cNvSpPr/>
          <p:nvPr/>
        </p:nvSpPr>
        <p:spPr>
          <a:xfrm>
            <a:off x="874800" y="1415880"/>
            <a:ext cx="732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归纳总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0" dur="80"/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1" dur="80"/>
                                        <p:tgtEl>
                                          <p:spTgt spid="5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2" dur="80"/>
                                        <p:tgtEl>
                                          <p:spTgt spid="5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TextBox 4"/>
          <p:cNvSpPr/>
          <p:nvPr/>
        </p:nvSpPr>
        <p:spPr>
          <a:xfrm>
            <a:off x="557280" y="1968480"/>
            <a:ext cx="208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问题探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Rectangle 5"/>
          <p:cNvSpPr/>
          <p:nvPr/>
        </p:nvSpPr>
        <p:spPr>
          <a:xfrm>
            <a:off x="880920" y="3350160"/>
            <a:ext cx="7382160" cy="11912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古人在创作诗词时一般比较忌讳重字，而在这首词的前两句“楚天千里清秋，水随天去秋无际”，作者却连用两个“秋”字，想想作者这样写的好处是什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2" name="圆角矩形 4"/>
          <p:cNvGrpSpPr/>
          <p:nvPr/>
        </p:nvGrpSpPr>
        <p:grpSpPr>
          <a:xfrm>
            <a:off x="3548160" y="1231920"/>
            <a:ext cx="2187360" cy="590400"/>
            <a:chOff x="3548160" y="1231920"/>
            <a:chExt cx="2187360" cy="590400"/>
          </a:xfrm>
        </p:grpSpPr>
        <p:pic>
          <p:nvPicPr>
            <p:cNvPr id="593" name="圆角矩形 4" descr=""/>
            <p:cNvPicPr/>
            <p:nvPr/>
          </p:nvPicPr>
          <p:blipFill>
            <a:blip r:embed="rId1"/>
            <a:stretch/>
          </p:blipFill>
          <p:spPr>
            <a:xfrm>
              <a:off x="3548160" y="1231920"/>
              <a:ext cx="2187360" cy="59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4" name=""/>
            <p:cNvSpPr/>
            <p:nvPr/>
          </p:nvSpPr>
          <p:spPr>
            <a:xfrm>
              <a:off x="3591000" y="1276200"/>
              <a:ext cx="2104920" cy="50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5" name="文本框 5"/>
          <p:cNvSpPr/>
          <p:nvPr/>
        </p:nvSpPr>
        <p:spPr>
          <a:xfrm>
            <a:off x="3705120" y="1249200"/>
            <a:ext cx="201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重难点解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矩形 3"/>
          <p:cNvSpPr/>
          <p:nvPr/>
        </p:nvSpPr>
        <p:spPr>
          <a:xfrm>
            <a:off x="990720" y="1955880"/>
            <a:ext cx="7172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   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【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点拨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】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作者选取两个视角表现无尽的秋意。第一句“楚天千里清秋”作者采用了仰视的视角来描绘秋天独有的高远、萧瑟的特点。第二句“水随天去秋无际”作者采用平视的视角来展现水天相连、浩浩江流东去的壮阔画面。两个“秋”字写出了词人目光的流动，目力所极一片秋色。第二个“秋”字高度概括了长江两岸的所有秋景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TextBox 4"/>
          <p:cNvSpPr/>
          <p:nvPr/>
        </p:nvSpPr>
        <p:spPr>
          <a:xfrm>
            <a:off x="538200" y="1535040"/>
            <a:ext cx="264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写作特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矩形 2"/>
          <p:cNvSpPr/>
          <p:nvPr/>
        </p:nvSpPr>
        <p:spPr>
          <a:xfrm>
            <a:off x="979560" y="2125800"/>
            <a:ext cx="7410240" cy="16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．寓情于景的写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200" spc="-1" strike="noStrike">
                <a:solidFill>
                  <a:srgbClr val="000000"/>
                </a:solidFill>
                <a:latin typeface="黑体"/>
                <a:ea typeface="黑体"/>
              </a:rPr>
              <a:t>这突出地表现在作品的上片。“楚天千里清秋，水随天去秋无际”，连用两个“秋”字，隐含了作者心中的愁苦之情。那烟波浩渺、水天一望无际的画面更增加了愁的力度，把此地之“景”和登临者的“情”有机地融合为一体。下面的“遥岑远目，献愁供恨，玉簪螺髻。落日楼头，断鸿声里，江南游子”也是如此，这些景物将作者的“愁”具体化了。远处美丽的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山峦已沦陷敌手，景色之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矩形 1"/>
          <p:cNvSpPr/>
          <p:nvPr/>
        </p:nvSpPr>
        <p:spPr>
          <a:xfrm>
            <a:off x="930240" y="1627200"/>
            <a:ext cx="7283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词人已无心欣赏，面对此情此景，作者只有愁和恨。因而在作者眼里，是“献愁供恨”。恰在此时，夕阳西照，一抹残晖似乎预示着风雨飘摇之中的南宋王朝的命运；离群孤雁凄厉的叫声让词人想起自己无家可归的游子处境。“落日”“孤雁”“游子”的情调和谐，一股悲凉、凄切的氛围迎面而来，已分不清什么是景，什么是情，真正达到了情与景的有机统一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矩形 1"/>
          <p:cNvSpPr/>
          <p:nvPr/>
        </p:nvSpPr>
        <p:spPr>
          <a:xfrm>
            <a:off x="932040" y="1494000"/>
            <a:ext cx="7278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．强烈而极富暗示性的动作刻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紧承“江南游子”，词作由即景抒情完全转入人事人情。“把吴钩看了，栏杆拍遍”，充满了昂扬的斗志和激情。在这里，作品不再用即景抒情之法，而是以人物动作表现人物的内心世界。作品所展示给我们的是包含感情色彩的景物和带有强烈激情的动作，而感情的具体内涵却需要我们自己去体会。这样作品便更加深沉浑厚，具有更加强烈的艺术魅力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1" name="圆角矩形 4"/>
          <p:cNvGrpSpPr/>
          <p:nvPr/>
        </p:nvGrpSpPr>
        <p:grpSpPr>
          <a:xfrm>
            <a:off x="3548160" y="1231920"/>
            <a:ext cx="2187360" cy="590400"/>
            <a:chOff x="3548160" y="1231920"/>
            <a:chExt cx="2187360" cy="590400"/>
          </a:xfrm>
        </p:grpSpPr>
        <p:pic>
          <p:nvPicPr>
            <p:cNvPr id="602" name="圆角矩形 4" descr=""/>
            <p:cNvPicPr/>
            <p:nvPr/>
          </p:nvPicPr>
          <p:blipFill>
            <a:blip r:embed="rId1"/>
            <a:stretch/>
          </p:blipFill>
          <p:spPr>
            <a:xfrm>
              <a:off x="3548160" y="1231920"/>
              <a:ext cx="2187360" cy="59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3" name=""/>
            <p:cNvSpPr/>
            <p:nvPr/>
          </p:nvSpPr>
          <p:spPr>
            <a:xfrm>
              <a:off x="3591000" y="1276200"/>
              <a:ext cx="2104920" cy="50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4" name="文本框 5"/>
          <p:cNvSpPr/>
          <p:nvPr/>
        </p:nvSpPr>
        <p:spPr>
          <a:xfrm>
            <a:off x="3705120" y="1249200"/>
            <a:ext cx="187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课文小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动作按钮: 自定义 5">
            <a:hlinkClick r:id="" action="ppaction://hlinkshowjump?jump=endshow"/>
          </p:cNvPr>
          <p:cNvSpPr/>
          <p:nvPr/>
        </p:nvSpPr>
        <p:spPr>
          <a:xfrm>
            <a:off x="7924680" y="6191280"/>
            <a:ext cx="973080" cy="423720"/>
          </a:xfrm>
          <a:custGeom>
            <a:avLst/>
            <a:gdLst>
              <a:gd name="textAreaLeft" fmla="*/ 27360 w 973080"/>
              <a:gd name="textAreaRight" fmla="*/ 945720 w 973080"/>
              <a:gd name="textAreaTop" fmla="*/ 27360 h 423720"/>
              <a:gd name="textAreaBottom" fmla="*/ 396360 h 423720"/>
            </a:gdLst>
            <a:ahLst/>
            <a:rect l="textAreaLeft" t="textAreaTop" r="textAreaRight" b="textAreaBottom"/>
            <a:pathLst>
              <a:path w="49581" h="21600">
                <a:moveTo>
                  <a:pt x="0" y="0"/>
                </a:moveTo>
                <a:lnTo>
                  <a:pt x="49581" y="0"/>
                </a:lnTo>
                <a:lnTo>
                  <a:pt x="49581" y="21600"/>
                </a:lnTo>
                <a:lnTo>
                  <a:pt x="0" y="21600"/>
                </a:lnTo>
                <a:close/>
              </a:path>
              <a:path fill="lightenLess" w="49581" h="21600">
                <a:moveTo>
                  <a:pt x="0" y="0"/>
                </a:moveTo>
                <a:lnTo>
                  <a:pt x="49581" y="0"/>
                </a:lnTo>
                <a:lnTo>
                  <a:pt x="48181" y="1400"/>
                </a:lnTo>
                <a:lnTo>
                  <a:pt x="1400" y="1400"/>
                </a:lnTo>
                <a:close/>
              </a:path>
              <a:path fill="darken" w="49581" h="21600">
                <a:moveTo>
                  <a:pt x="49581" y="0"/>
                </a:moveTo>
                <a:lnTo>
                  <a:pt x="49581" y="21600"/>
                </a:lnTo>
                <a:lnTo>
                  <a:pt x="48181" y="20200"/>
                </a:lnTo>
                <a:lnTo>
                  <a:pt x="48181" y="1400"/>
                </a:lnTo>
                <a:close/>
              </a:path>
              <a:path fill="darkenLess" w="49581" h="21600">
                <a:moveTo>
                  <a:pt x="495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181" y="20200"/>
                </a:lnTo>
                <a:close/>
              </a:path>
              <a:path fill="lighten" w="495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3300"/>
          </a:solidFill>
          <a:ln w="0">
            <a:noFill/>
          </a:ln>
          <a:effectLst>
            <a:outerShdw dist="28080" dir="5400000" blurRad="0" rotWithShape="0">
              <a:srgbClr val="000000">
                <a:alpha val="3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退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6" name="Picture 2" descr=""/>
          <p:cNvPicPr/>
          <p:nvPr/>
        </p:nvPicPr>
        <p:blipFill>
          <a:blip r:embed="rId2">
            <a:lum bright="-40000"/>
          </a:blip>
          <a:stretch/>
        </p:blipFill>
        <p:spPr>
          <a:xfrm>
            <a:off x="928800" y="1890720"/>
            <a:ext cx="728640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1"/>
          <p:cNvSpPr/>
          <p:nvPr/>
        </p:nvSpPr>
        <p:spPr>
          <a:xfrm>
            <a:off x="900000" y="2558880"/>
            <a:ext cx="7593120" cy="17398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了解辛弃疾的生平和词作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理解词中所用典故的含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鉴赏这首词的艺术手法和寄托的情感，深刻理解词人的悲苦心情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6" name="圆角矩形 5"/>
          <p:cNvGrpSpPr/>
          <p:nvPr/>
        </p:nvGrpSpPr>
        <p:grpSpPr>
          <a:xfrm>
            <a:off x="3548160" y="1231920"/>
            <a:ext cx="2187360" cy="596880"/>
            <a:chOff x="3548160" y="1231920"/>
            <a:chExt cx="2187360" cy="596880"/>
          </a:xfrm>
        </p:grpSpPr>
        <p:pic>
          <p:nvPicPr>
            <p:cNvPr id="527" name="圆角矩形 5" descr=""/>
            <p:cNvPicPr/>
            <p:nvPr/>
          </p:nvPicPr>
          <p:blipFill>
            <a:blip r:embed="rId1"/>
            <a:stretch/>
          </p:blipFill>
          <p:spPr>
            <a:xfrm>
              <a:off x="3548160" y="1231920"/>
              <a:ext cx="2187360" cy="59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8" name=""/>
            <p:cNvSpPr/>
            <p:nvPr/>
          </p:nvSpPr>
          <p:spPr>
            <a:xfrm>
              <a:off x="3591000" y="1276200"/>
              <a:ext cx="2104920" cy="50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9" name="文本框 6"/>
          <p:cNvSpPr/>
          <p:nvPr/>
        </p:nvSpPr>
        <p:spPr>
          <a:xfrm>
            <a:off x="3705120" y="1249200"/>
            <a:ext cx="187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学习目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2"/>
          <p:cNvSpPr/>
          <p:nvPr/>
        </p:nvSpPr>
        <p:spPr>
          <a:xfrm>
            <a:off x="912960" y="3684960"/>
            <a:ext cx="7489800" cy="13122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辛弃疾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(1140—1207)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，字幼安，号稼轩，历城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今山东济南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人。南宋豪放派代表词人，与苏轼齐名，世称“苏辛”。又是爱国词派的代表。曾多次上书，陈抗金复国方略，都未被采纳。历官江西、湖南、湖北安抚使，但都不久于职。终以报国无路，忧愤而死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辛弃疾的词作现存六百二十余首，内容极为丰富，其中抒写爱国思想之作占有极大分量。他继承和发展了苏轼所开创的豪放词派，著有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稼轩长短句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TextBox 27"/>
          <p:cNvSpPr/>
          <p:nvPr/>
        </p:nvSpPr>
        <p:spPr>
          <a:xfrm>
            <a:off x="525600" y="1884240"/>
            <a:ext cx="245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5760" indent="-455760">
              <a:lnSpc>
                <a:spcPct val="100000"/>
              </a:lnSpc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作者简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2" name="圆角矩形 7"/>
          <p:cNvGrpSpPr/>
          <p:nvPr/>
        </p:nvGrpSpPr>
        <p:grpSpPr>
          <a:xfrm>
            <a:off x="3548160" y="1231920"/>
            <a:ext cx="2187360" cy="596880"/>
            <a:chOff x="3548160" y="1231920"/>
            <a:chExt cx="2187360" cy="596880"/>
          </a:xfrm>
        </p:grpSpPr>
        <p:pic>
          <p:nvPicPr>
            <p:cNvPr id="533" name="圆角矩形 7" descr=""/>
            <p:cNvPicPr/>
            <p:nvPr/>
          </p:nvPicPr>
          <p:blipFill>
            <a:blip r:embed="rId1"/>
            <a:stretch/>
          </p:blipFill>
          <p:spPr>
            <a:xfrm>
              <a:off x="3548160" y="1231920"/>
              <a:ext cx="2187360" cy="59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4" name=""/>
            <p:cNvSpPr/>
            <p:nvPr/>
          </p:nvSpPr>
          <p:spPr>
            <a:xfrm>
              <a:off x="3591000" y="1276200"/>
              <a:ext cx="2104920" cy="50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5" name="文本框 5"/>
          <p:cNvSpPr/>
          <p:nvPr/>
        </p:nvSpPr>
        <p:spPr>
          <a:xfrm>
            <a:off x="3705120" y="1249200"/>
            <a:ext cx="187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整体感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矩形 1"/>
          <p:cNvSpPr/>
          <p:nvPr/>
        </p:nvSpPr>
        <p:spPr>
          <a:xfrm>
            <a:off x="900000" y="2433600"/>
            <a:ext cx="7485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水龙吟”是词牌名。“登建康赏心亭”是词的题目。建康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今江苏南京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是东吴、东晋、宋、齐、梁、陈六个朝代的都城。赏心亭是南宋建康城上的亭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这首词作于宋孝宗淳熙元年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(1174)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秋。这年春天，辛弃疾由滁州知府调为江东安抚司参议官，得以再返建康。词人时年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5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岁，南归已逾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2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年，壮志依然未酬，胸中充满郁愤之气。这一年的秋天，作者登上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TextBox 27"/>
          <p:cNvSpPr/>
          <p:nvPr/>
        </p:nvSpPr>
        <p:spPr>
          <a:xfrm>
            <a:off x="566640" y="1909800"/>
            <a:ext cx="263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5760" indent="-455760">
              <a:lnSpc>
                <a:spcPct val="100000"/>
              </a:lnSpc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写作背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8" name="圆角矩形 3"/>
          <p:cNvGrpSpPr/>
          <p:nvPr/>
        </p:nvGrpSpPr>
        <p:grpSpPr>
          <a:xfrm>
            <a:off x="3548160" y="1231920"/>
            <a:ext cx="2187360" cy="596880"/>
            <a:chOff x="3548160" y="1231920"/>
            <a:chExt cx="2187360" cy="596880"/>
          </a:xfrm>
        </p:grpSpPr>
        <p:pic>
          <p:nvPicPr>
            <p:cNvPr id="539" name="圆角矩形 3" descr=""/>
            <p:cNvPicPr/>
            <p:nvPr/>
          </p:nvPicPr>
          <p:blipFill>
            <a:blip r:embed="rId1"/>
            <a:stretch/>
          </p:blipFill>
          <p:spPr>
            <a:xfrm>
              <a:off x="3548160" y="1231920"/>
              <a:ext cx="2187360" cy="59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0" name=""/>
            <p:cNvSpPr/>
            <p:nvPr/>
          </p:nvSpPr>
          <p:spPr>
            <a:xfrm>
              <a:off x="3591000" y="1276200"/>
              <a:ext cx="2104920" cy="50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1" name="文本框 5"/>
          <p:cNvSpPr/>
          <p:nvPr/>
        </p:nvSpPr>
        <p:spPr>
          <a:xfrm>
            <a:off x="3705120" y="1249200"/>
            <a:ext cx="187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整体感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矩形 1"/>
          <p:cNvSpPr/>
          <p:nvPr/>
        </p:nvSpPr>
        <p:spPr>
          <a:xfrm>
            <a:off x="961920" y="1909800"/>
            <a:ext cx="7220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建康城的赏心亭，眺望辽阔的南天、远逝的流水和高耸的山峰，又看到了夕阳西沉，听到了声声雁啼，就更引发出他的无限忧思。作者既不愿退隐江湖，又不肯贪图享受，他只是急切地希望去杀敌报国，生怕时不待人，就这样白白地老去。而他的雄心壮志却没人能够理解，这正是词人当时内心最大的悲哀！这首词是词人早期作品中最负盛名的一篇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矩形 3"/>
          <p:cNvSpPr/>
          <p:nvPr/>
        </p:nvSpPr>
        <p:spPr>
          <a:xfrm>
            <a:off x="914400" y="1959120"/>
            <a:ext cx="738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1.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作者在赏心亭看到什么触动自己心弦的景物？表现了词人怎样的心境？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4" name="圆角矩形 2"/>
          <p:cNvGrpSpPr/>
          <p:nvPr/>
        </p:nvGrpSpPr>
        <p:grpSpPr>
          <a:xfrm>
            <a:off x="3548160" y="1231920"/>
            <a:ext cx="2187360" cy="590400"/>
            <a:chOff x="3548160" y="1231920"/>
            <a:chExt cx="2187360" cy="590400"/>
          </a:xfrm>
        </p:grpSpPr>
        <p:pic>
          <p:nvPicPr>
            <p:cNvPr id="545" name="圆角矩形 2" descr=""/>
            <p:cNvPicPr/>
            <p:nvPr/>
          </p:nvPicPr>
          <p:blipFill>
            <a:blip r:embed="rId1"/>
            <a:stretch/>
          </p:blipFill>
          <p:spPr>
            <a:xfrm>
              <a:off x="3548160" y="1231920"/>
              <a:ext cx="2187360" cy="59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6" name=""/>
            <p:cNvSpPr/>
            <p:nvPr/>
          </p:nvSpPr>
          <p:spPr>
            <a:xfrm>
              <a:off x="3591000" y="1276200"/>
              <a:ext cx="2104920" cy="50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7" name="文本框 4"/>
          <p:cNvSpPr/>
          <p:nvPr/>
        </p:nvSpPr>
        <p:spPr>
          <a:xfrm>
            <a:off x="3705120" y="1249200"/>
            <a:ext cx="187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研读课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Rectangle 9"/>
          <p:cNvSpPr/>
          <p:nvPr/>
        </p:nvSpPr>
        <p:spPr>
          <a:xfrm>
            <a:off x="903240" y="5815080"/>
            <a:ext cx="7556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ff"/>
                </a:solidFill>
                <a:latin typeface="黑体"/>
                <a:ea typeface="黑体"/>
              </a:rPr>
              <a:t>断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 Box 10"/>
          <p:cNvSpPr/>
          <p:nvPr/>
        </p:nvSpPr>
        <p:spPr>
          <a:xfrm>
            <a:off x="1592280" y="3360600"/>
            <a:ext cx="528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水天相接，无边无际，雄浑，显得</a:t>
            </a:r>
            <a:r>
              <a:rPr b="0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空寂苍凉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 Box 11"/>
          <p:cNvSpPr/>
          <p:nvPr/>
        </p:nvSpPr>
        <p:spPr>
          <a:xfrm>
            <a:off x="1682640" y="4073400"/>
            <a:ext cx="489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比喻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，清秀之美。满怀</a:t>
            </a:r>
            <a:r>
              <a:rPr b="0" lang="zh-CN" sz="2000" spc="-1" strike="noStrike">
                <a:solidFill>
                  <a:srgbClr val="cc3300"/>
                </a:solidFill>
                <a:latin typeface="黑体"/>
                <a:ea typeface="黑体"/>
              </a:rPr>
              <a:t>愁恨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 Box 12"/>
          <p:cNvSpPr/>
          <p:nvPr/>
        </p:nvSpPr>
        <p:spPr>
          <a:xfrm>
            <a:off x="1676520" y="5676840"/>
            <a:ext cx="490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失群的孤雁，比喻自己因飘零的身世而</a:t>
            </a:r>
            <a:r>
              <a:rPr b="0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悲苦和孤寂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的心情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 Box 14"/>
          <p:cNvSpPr/>
          <p:nvPr/>
        </p:nvSpPr>
        <p:spPr>
          <a:xfrm>
            <a:off x="932040" y="3398760"/>
            <a:ext cx="74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ff"/>
                </a:solidFill>
                <a:latin typeface="黑体"/>
                <a:ea typeface="黑体"/>
              </a:rPr>
              <a:t>江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 Box 15"/>
          <p:cNvSpPr/>
          <p:nvPr/>
        </p:nvSpPr>
        <p:spPr>
          <a:xfrm>
            <a:off x="903240" y="4089240"/>
            <a:ext cx="7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ff"/>
                </a:solidFill>
                <a:latin typeface="黑体"/>
                <a:ea typeface="黑体"/>
              </a:rPr>
              <a:t>山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 Box 18"/>
          <p:cNvSpPr/>
          <p:nvPr/>
        </p:nvSpPr>
        <p:spPr>
          <a:xfrm>
            <a:off x="914400" y="4935600"/>
            <a:ext cx="74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ff"/>
                </a:solidFill>
                <a:latin typeface="黑体"/>
                <a:ea typeface="黑体"/>
              </a:rPr>
              <a:t>落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Box 19"/>
          <p:cNvSpPr/>
          <p:nvPr/>
        </p:nvSpPr>
        <p:spPr>
          <a:xfrm>
            <a:off x="1658880" y="4799160"/>
            <a:ext cx="487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比喻南宋国势</a:t>
            </a:r>
            <a:r>
              <a:rPr b="0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衰颓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的意思，也表达了作者的</a:t>
            </a:r>
            <a:r>
              <a:rPr b="0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愁苦悲凉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心情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AutoShape 20"/>
          <p:cNvSpPr/>
          <p:nvPr/>
        </p:nvSpPr>
        <p:spPr>
          <a:xfrm>
            <a:off x="6702480" y="3414600"/>
            <a:ext cx="193680" cy="2971800"/>
          </a:xfrm>
          <a:custGeom>
            <a:avLst/>
            <a:gdLst>
              <a:gd name="textAreaLeft" fmla="*/ 0 w 193680"/>
              <a:gd name="textAreaRight" fmla="*/ 69840 w 193680"/>
              <a:gd name="textAreaTop" fmla="*/ 86040 h 2971800"/>
              <a:gd name="textAreaBottom" fmla="*/ 2885760 h 2971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003"/>
                  <a:pt x="10800" y="2006"/>
                </a:cubicBezTo>
                <a:lnTo>
                  <a:pt x="10800" y="8794"/>
                </a:lnTo>
                <a:cubicBezTo>
                  <a:pt x="10800" y="9797"/>
                  <a:pt x="16200" y="10800"/>
                  <a:pt x="21600" y="10800"/>
                </a:cubicBezTo>
                <a:cubicBezTo>
                  <a:pt x="16200" y="10800"/>
                  <a:pt x="10800" y="11803"/>
                  <a:pt x="10800" y="12806"/>
                </a:cubicBezTo>
                <a:lnTo>
                  <a:pt x="10800" y="19594"/>
                </a:lnTo>
                <a:cubicBezTo>
                  <a:pt x="10800" y="20597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 Box 21"/>
          <p:cNvSpPr/>
          <p:nvPr/>
        </p:nvSpPr>
        <p:spPr>
          <a:xfrm>
            <a:off x="6972480" y="4137120"/>
            <a:ext cx="1280880" cy="13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66"/>
                </a:solidFill>
                <a:latin typeface="黑体"/>
                <a:ea typeface="黑体"/>
              </a:rPr>
              <a:t>浩渺壮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66"/>
                </a:solidFill>
                <a:latin typeface="黑体"/>
                <a:ea typeface="黑体"/>
              </a:rPr>
              <a:t>气势雄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66"/>
                </a:solidFill>
                <a:latin typeface="黑体"/>
                <a:ea typeface="黑体"/>
              </a:rPr>
              <a:t>苍茫悲凉</a:t>
            </a: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4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9" dur="2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矩形 3"/>
          <p:cNvSpPr/>
          <p:nvPr/>
        </p:nvSpPr>
        <p:spPr>
          <a:xfrm>
            <a:off x="895320" y="1289160"/>
            <a:ext cx="738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2.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作者用了哪几个动作来表达自己内心的情绪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矩形 3"/>
          <p:cNvSpPr/>
          <p:nvPr/>
        </p:nvSpPr>
        <p:spPr>
          <a:xfrm>
            <a:off x="961920" y="1847880"/>
            <a:ext cx="7282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【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提示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】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看、拍、会、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“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吴钩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”本是战场杀敌之锐器，现在却闲置身旁，烘托词人空有满腔雄心壮志，却是英雄无用武之地的苦闷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“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栏杆拍遍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”是胸中说不出的抑郁苦闷之气，借拍打栏杆来发泄，雄心壮志无处施展的急切悲愤的情态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“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无人会、登临意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”感叹自己空有恢复中原的抱负，而南宋统治集团中却无人是知己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矩形 3"/>
          <p:cNvSpPr/>
          <p:nvPr/>
        </p:nvSpPr>
        <p:spPr>
          <a:xfrm>
            <a:off x="887400" y="1496880"/>
            <a:ext cx="732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上片小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Text Box 4"/>
          <p:cNvSpPr/>
          <p:nvPr/>
        </p:nvSpPr>
        <p:spPr>
          <a:xfrm>
            <a:off x="887400" y="3708360"/>
            <a:ext cx="13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3300"/>
                </a:solidFill>
                <a:latin typeface="黑体"/>
                <a:ea typeface="黑体"/>
              </a:rPr>
              <a:t>上片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AutoShape 5"/>
          <p:cNvSpPr/>
          <p:nvPr/>
        </p:nvSpPr>
        <p:spPr>
          <a:xfrm>
            <a:off x="2144880" y="3006720"/>
            <a:ext cx="215640" cy="2198520"/>
          </a:xfrm>
          <a:custGeom>
            <a:avLst/>
            <a:gdLst>
              <a:gd name="textAreaLeft" fmla="*/ 137880 w 215640"/>
              <a:gd name="textAreaRight" fmla="*/ 216000 w 215640"/>
              <a:gd name="textAreaTop" fmla="*/ 57240 h 2198520"/>
              <a:gd name="textAreaBottom" fmla="*/ 2141280 h 2198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Text Box 6"/>
          <p:cNvSpPr/>
          <p:nvPr/>
        </p:nvSpPr>
        <p:spPr>
          <a:xfrm>
            <a:off x="2438280" y="2752560"/>
            <a:ext cx="374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景色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： 江天、山景、落日、断鸿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 Box 7"/>
          <p:cNvSpPr/>
          <p:nvPr/>
        </p:nvSpPr>
        <p:spPr>
          <a:xfrm>
            <a:off x="2511360" y="4192560"/>
            <a:ext cx="36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动作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：看、拍、会、登</a:t>
            </a:r>
            <a:r>
              <a:rPr b="0" lang="zh-CN" sz="3200" spc="-1" strike="noStrike">
                <a:solidFill>
                  <a:srgbClr val="ed7d31"/>
                </a:solidFill>
                <a:latin typeface="黑体"/>
                <a:ea typeface="黑体"/>
              </a:rPr>
              <a:t> 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 Box 8"/>
          <p:cNvSpPr/>
          <p:nvPr/>
        </p:nvSpPr>
        <p:spPr>
          <a:xfrm>
            <a:off x="6248520" y="3338640"/>
            <a:ext cx="21589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0000"/>
                </a:solidFill>
                <a:latin typeface="黑体"/>
                <a:ea typeface="黑体"/>
              </a:rPr>
              <a:t>寓情于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0000"/>
                </a:solidFill>
                <a:latin typeface="黑体"/>
                <a:ea typeface="黑体"/>
              </a:rPr>
              <a:t>借景抒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AutoShape 10"/>
          <p:cNvSpPr/>
          <p:nvPr/>
        </p:nvSpPr>
        <p:spPr>
          <a:xfrm>
            <a:off x="6032520" y="2954160"/>
            <a:ext cx="216000" cy="2303640"/>
          </a:xfrm>
          <a:custGeom>
            <a:avLst/>
            <a:gdLst>
              <a:gd name="textAreaLeft" fmla="*/ 0 w 216000"/>
              <a:gd name="textAreaRight" fmla="*/ 78120 w 216000"/>
              <a:gd name="textAreaTop" fmla="*/ 59760 h 2303640"/>
              <a:gd name="textAreaBottom" fmla="*/ 2243880 h 230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9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2" dur="20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7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0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3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矩形 3"/>
          <p:cNvSpPr/>
          <p:nvPr/>
        </p:nvSpPr>
        <p:spPr>
          <a:xfrm>
            <a:off x="909720" y="1270080"/>
            <a:ext cx="7324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3.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与词的上片相比，词的下片描写对象变成了历史人物，词人写了哪些人和哪些事呢？词人对这些历史人物各持什么态度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Rectangle 2"/>
          <p:cNvSpPr/>
          <p:nvPr/>
        </p:nvSpPr>
        <p:spPr>
          <a:xfrm>
            <a:off x="2438280" y="3243240"/>
            <a:ext cx="323388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张翰 ：乐于归隐</a:t>
            </a:r>
            <a:r>
              <a:rPr b="0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   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Rectangle 5"/>
          <p:cNvSpPr/>
          <p:nvPr/>
        </p:nvSpPr>
        <p:spPr>
          <a:xfrm>
            <a:off x="3012480" y="3846600"/>
            <a:ext cx="175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许汜：谋取私利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Rectangle 8"/>
          <p:cNvSpPr/>
          <p:nvPr/>
        </p:nvSpPr>
        <p:spPr>
          <a:xfrm>
            <a:off x="5437080" y="359424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不学、不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Rectangle 9"/>
          <p:cNvSpPr/>
          <p:nvPr/>
        </p:nvSpPr>
        <p:spPr>
          <a:xfrm>
            <a:off x="2915280" y="4781520"/>
            <a:ext cx="184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刘备 ：雄才大略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Line 10"/>
          <p:cNvSpPr/>
          <p:nvPr/>
        </p:nvSpPr>
        <p:spPr>
          <a:xfrm flipV="1">
            <a:off x="5100480" y="5006880"/>
            <a:ext cx="648000" cy="12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 Box 11"/>
          <p:cNvSpPr/>
          <p:nvPr/>
        </p:nvSpPr>
        <p:spPr>
          <a:xfrm>
            <a:off x="5688000" y="473400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赞赏，志在为国为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Rectangle 12"/>
          <p:cNvSpPr/>
          <p:nvPr/>
        </p:nvSpPr>
        <p:spPr>
          <a:xfrm>
            <a:off x="2877480" y="5645160"/>
            <a:ext cx="198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桓温 ：叹时光流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Line 13"/>
          <p:cNvSpPr/>
          <p:nvPr/>
        </p:nvSpPr>
        <p:spPr>
          <a:xfrm>
            <a:off x="5307120" y="58975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 Box 14"/>
          <p:cNvSpPr/>
          <p:nvPr/>
        </p:nvSpPr>
        <p:spPr>
          <a:xfrm>
            <a:off x="5999040" y="532296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忧惧国事飘摇，时光流逝，北伐无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AutoShape 15"/>
          <p:cNvSpPr/>
          <p:nvPr/>
        </p:nvSpPr>
        <p:spPr>
          <a:xfrm>
            <a:off x="2276640" y="3321000"/>
            <a:ext cx="161640" cy="1004760"/>
          </a:xfrm>
          <a:custGeom>
            <a:avLst/>
            <a:gdLst>
              <a:gd name="textAreaLeft" fmla="*/ 103320 w 161640"/>
              <a:gd name="textAreaRight" fmla="*/ 162000 w 161640"/>
              <a:gd name="textAreaTop" fmla="*/ 27360 h 1004760"/>
              <a:gd name="textAreaBottom" fmla="*/ 977400 h 1004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50"/>
                  <a:pt x="10800" y="1900"/>
                </a:cubicBezTo>
                <a:lnTo>
                  <a:pt x="10800" y="8900"/>
                </a:lnTo>
                <a:cubicBezTo>
                  <a:pt x="10800" y="9850"/>
                  <a:pt x="5400" y="10800"/>
                  <a:pt x="0" y="10800"/>
                </a:cubicBezTo>
                <a:cubicBezTo>
                  <a:pt x="5400" y="10800"/>
                  <a:pt x="10800" y="11750"/>
                  <a:pt x="10800" y="12700"/>
                </a:cubicBezTo>
                <a:lnTo>
                  <a:pt x="10800" y="19700"/>
                </a:lnTo>
                <a:cubicBezTo>
                  <a:pt x="10800" y="2065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AutoShape 16"/>
          <p:cNvSpPr/>
          <p:nvPr/>
        </p:nvSpPr>
        <p:spPr>
          <a:xfrm>
            <a:off x="2208240" y="4889520"/>
            <a:ext cx="228600" cy="12952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 Box 17"/>
          <p:cNvSpPr/>
          <p:nvPr/>
        </p:nvSpPr>
        <p:spPr>
          <a:xfrm>
            <a:off x="1722600" y="3444840"/>
            <a:ext cx="533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反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 Box 18"/>
          <p:cNvSpPr/>
          <p:nvPr/>
        </p:nvSpPr>
        <p:spPr>
          <a:xfrm>
            <a:off x="1736640" y="5092560"/>
            <a:ext cx="457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正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AutoShape 19"/>
          <p:cNvSpPr/>
          <p:nvPr/>
        </p:nvSpPr>
        <p:spPr>
          <a:xfrm>
            <a:off x="1460520" y="3589200"/>
            <a:ext cx="304920" cy="2514600"/>
          </a:xfrm>
          <a:custGeom>
            <a:avLst/>
            <a:gdLst>
              <a:gd name="textAreaLeft" fmla="*/ 194760 w 304920"/>
              <a:gd name="textAreaRight" fmla="*/ 305280 w 304920"/>
              <a:gd name="textAreaTop" fmla="*/ 65520 h 2514600"/>
              <a:gd name="textAreaBottom" fmla="*/ 2449080 h 2514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 Box 20"/>
          <p:cNvSpPr/>
          <p:nvPr/>
        </p:nvSpPr>
        <p:spPr>
          <a:xfrm>
            <a:off x="968400" y="441180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用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AutoShape 23"/>
          <p:cNvSpPr/>
          <p:nvPr/>
        </p:nvSpPr>
        <p:spPr>
          <a:xfrm>
            <a:off x="5284800" y="3268800"/>
            <a:ext cx="152280" cy="1114200"/>
          </a:xfrm>
          <a:custGeom>
            <a:avLst/>
            <a:gdLst>
              <a:gd name="textAreaLeft" fmla="*/ 0 w 152280"/>
              <a:gd name="textAreaRight" fmla="*/ 55080 w 152280"/>
              <a:gd name="textAreaTop" fmla="*/ 22320 h 1114200"/>
              <a:gd name="textAreaBottom" fmla="*/ 1091880 h 11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700"/>
                  <a:pt x="10800" y="1400"/>
                </a:cubicBezTo>
                <a:lnTo>
                  <a:pt x="10800" y="9400"/>
                </a:lnTo>
                <a:cubicBezTo>
                  <a:pt x="10800" y="10100"/>
                  <a:pt x="16200" y="10800"/>
                  <a:pt x="21600" y="10800"/>
                </a:cubicBezTo>
                <a:cubicBezTo>
                  <a:pt x="16200" y="10800"/>
                  <a:pt x="10800" y="11500"/>
                  <a:pt x="10800" y="12200"/>
                </a:cubicBezTo>
                <a:lnTo>
                  <a:pt x="10800" y="20200"/>
                </a:lnTo>
                <a:cubicBezTo>
                  <a:pt x="10800" y="209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8" dur="2000"/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3" dur="20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3" dur="20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3" dur="20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8" dur="20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3" dur="20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8" dur="20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3" dur="20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8" dur="20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3" dur="20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8" dur="20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3" dur="20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8" dur="20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3" dur="20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19T02:03:03Z</dcterms:created>
  <dc:creator>Administrator</dc:creator>
  <dc:description/>
  <dc:language>en-US</dc:language>
  <cp:lastModifiedBy>Administrator</cp:lastModifiedBy>
  <dcterms:modified xsi:type="dcterms:W3CDTF">2016-03-31T12:55:18Z</dcterms:modified>
  <cp:revision>90</cp:revision>
  <dc:subject/>
  <dc:title>PowerPoint 演示文稿</dc:title>
</cp:coreProperties>
</file>